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CC518-9DB0-43D3-88AB-65AC5667AD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8C911-3151-4C81-8ED1-10989E7C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B71CA2-C629-498A-8AAE-61AFC115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CC167E-4EB5-43CE-8D04-436CD7B74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9A18B2-6F70-41FB-9459-73DF01FA7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676BF9-8B89-41F4-88BD-35E4126C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073580-C6C2-4C57-974B-0B77A2DB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939C54-ACD1-4784-8F46-1B5988FE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196A7A-1DC7-4EBA-8C8E-AF160E0A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02D0E8-0BD1-4F30-BBE2-59F5B103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B8BA7C-2DB0-41F5-A075-C63D5F40FC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B2028-5BF6-4088-B6AB-1956E9A579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4A367-24B3-4884-9E63-7DB1C0E1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BC061-E565-432A-816E-86C09780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5ABE3-9E99-4452-93FE-2611D923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73C86-A71B-4CD9-87DA-7F358ADE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BDE35-0464-4C3D-8A95-0D1EDD62C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BE131-0D92-4E15-BA52-7B87B93F5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C28AE-98F8-476C-9A36-9639ACD0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C65BD-81B4-4730-9F83-F3DA013C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0E44E-6DAC-4DF6-8608-E0AA1A7B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FCDC7-73B2-457A-861B-F70CD1E7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C9D34-1696-4098-8C01-311CDE73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ED538-C9C4-405A-A5D1-E1E18249D7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5118D-152D-49C7-BEE3-5BE3BB1A98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E9B02A-28C4-4612-805B-9A76B0E15A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B9C2FD-73DC-473E-9B05-EAB9E796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29C708-61EE-4F42-B59F-320ACA9A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09A792-827D-45CE-86E9-BC3FA9A7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39B98D-5681-4812-8A17-9CEAB8C9C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03D6DE-91F1-4959-A1B2-363BB5E6C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9A30CB-D8E0-47EC-A0E3-C46498F9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34B2F3-C24F-4B03-B0BD-962ED683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1182B5-F523-46AF-B220-BB13C12D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E175D-F7C4-451F-8A76-410769A1F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DC191C-F348-4D5C-B168-21A7B81B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BAA025-B6F1-4AC0-8264-92B4A514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F4E148-29A6-4B0C-9A72-830399BE00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E0EC9A-27D8-476C-AA18-99A1E71F67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497A4F-5477-415A-908B-A2FEB8CB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65CD6C-646F-49D7-8085-242BCC0A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9A04B5-70D0-440D-A799-9E5E6DB4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799FF9-10EA-4403-9C1C-462F2053E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7831C9-CC59-4C5C-AE2E-6ABE0AD5B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CF315F-C7B4-43F7-952A-13469785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75F71-FC53-48FA-93A5-187B587D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03CF66-CB9D-4014-AAB1-538F9CAA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C15A96-508D-4A53-A8A0-5D8FC1B3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9208FD-D1DC-42C2-BFCF-FAD4FDA1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CEFDEA-1CA0-4E8B-96D9-8C545E07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D6FE0C-A5FF-49B2-AD5E-ED1A7A507C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AD75F1-C379-4704-ADEC-20109D53F3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A4419-E188-4F6C-9501-9E2EE77A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7157C9-7A8E-4F49-A30A-0EA8005B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116C6-F875-48E2-8BC7-3E1FC8B7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BBDF7-0442-4054-9F1B-01C4506D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9D7B0-BC6C-4E89-83A0-5279328C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A255C-0BDB-4741-ADFA-3C4F9EDD6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F19C2-4DBD-400C-AE27-21A6332F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74EE5-7801-4D18-A657-5F4C72D7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5C85D-D192-4A19-B759-9B05992C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00B52-BE01-4EF7-8936-8E923408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DD846-1630-4C62-98A0-990B8151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CAC17-DA44-4C61-8640-A8386FDAA5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8C510B-D57A-44A6-BFD9-BD3BE5F23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86287-DB6A-4849-BBF5-7C3D6069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0188F-C952-4A3C-A7A3-EE3F0D4B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4B7D9-7BB3-47DD-943E-E5A01A87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DCCA7-B2E1-4A8E-B0F4-15484D68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CA2DE6-6D0E-4653-93A6-25711AC4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141BD1-A77A-4134-8B92-E7A6FA70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4CDCC-8C03-4F23-9EEE-ED90A6A1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4A5EE-F2CE-452A-8809-7FC1DFCC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0E0573-6921-4289-8633-B0E9FCDB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910CBE-AD2A-44A7-97BF-CFBBAF62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D46EB7-B10C-44BC-BE99-CB024269B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66991-C8AC-4010-BAAA-7EAC33318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9FC9B-DED5-41DA-946F-36F02E72F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A3F68-07DB-48AB-9DCB-6F3ECF2B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0B53F-C9C7-4249-877C-B8FAB883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1A524-4416-4CA7-9A3B-163D0420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3E2F9-E0FE-41FB-8765-36E9CE31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1CE3A-B447-478B-BF6D-7C1EEA3F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026CFF-E8E0-4711-8BF7-47CD4F94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D0E2A8-A99C-405B-82B1-5528536D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0AD78-F92E-4B8F-9C1F-E2868449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0CF26-B783-40DA-9161-F218BCEE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32B68-7F67-4401-AD1C-7FDE8C8D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E9B9B-9773-4C5B-9C76-171B0502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D826C5-9FC4-4172-9F09-B7B6BC32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4C4DA-13AC-4B6A-ABF7-075343F26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9A92A4-74AE-455F-B15E-AB7EB91A8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190B09-3D86-40B1-B9BA-B3912E8B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B3EE75-F9D4-4D24-899F-1C106BEA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23138C-68F0-4A02-9801-758611FA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AD7622-8FCF-4D24-AF47-9D116E86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423ED-CF19-417D-90D4-13CFBA5B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DD2CA6-F940-4E9B-BF30-790FA872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36E692-DD41-4E5F-8B62-1983A756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925E6A-24B0-4E1F-AAA3-B1D28859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DDDBD8-2ADE-4983-AB9B-74D90874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853484-5962-4913-999E-BF802264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D562E8-A89F-4552-A17A-F453A350B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53333E-2F1D-4883-86EE-DD18B2CCA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9BEB73-92C0-4687-AE8A-0D4FA1F14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843B45-5B27-48CB-9E7F-35717CCC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505F4F-131D-428F-98B8-0254557C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91996C-C8BC-4C37-99F2-9805A186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109531-9A47-4F84-87E1-AC280A2D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4A100E-2926-4278-9F61-3CE1C0FB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F68ED7-CDC5-428D-A3BF-51FD274A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4A2F4-E244-49D0-9E54-B7497744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8D268-7BC7-45A1-BA6C-1A8967B7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9A5C1B-9AFD-4839-9EDA-7C04694C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64F0DA-F0A0-4D1F-83EB-DE6E805B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54F615-D56B-409C-84D1-ED7FFD59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057C81-340D-4ED0-805F-65E4CA065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4DB387-39F3-4B5D-96F3-60670584A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32BF67-5618-4F82-AEED-E06B64FE0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28EC69-09F7-4493-8BD5-4E0BD364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5C6C2E-E5C3-4689-9568-3DC742BF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FC854C-7B6A-4952-BDB2-7A9E28EE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6B7F9D-A7A7-43D7-9FF4-1F0885C5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CD58A-BF98-4473-854B-8D8A646E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5C462D-64A3-4F1D-86D4-B2AF5F62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7C65AB-9ADC-4011-9431-E3DB80E8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C24ABE-1803-4472-82D7-4364EA73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5776B1-429C-47A9-A9A4-9513D993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7D13D9-917A-4193-8D1D-E53C8DE8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760747-8FDE-4DD4-B306-9ABEACBE0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0AE1F7-C7AB-4748-B789-61F68BC50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60A650-0777-40DE-93F0-609595FA2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022C57-253C-48F7-85DF-2AECDDDA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EA72BE-F1F0-4137-B396-0B1C01B5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9254D-EB16-4CD7-8CA9-E7AE906C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763E82-D483-4131-BB25-3BB384B7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C90B5E-48FB-4572-B499-292F65CD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12F294-1FBD-4437-A018-6351F385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395D00-2A00-4D5B-94DC-3741A265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4A602A-391D-445C-A7C3-6767B4F1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7FBDC9-2F3D-406C-AD0E-BD96A024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9EDE71-9783-4F89-A011-62028CE0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E0B22F-C5FD-4F34-A621-F64BA9FED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163CA2-EFB6-4C95-B785-186949AC0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3BEE77-134A-4308-A6C2-BE146B98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F61C9-F624-4E3B-BE54-87B2939F1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D11790-1285-4BC7-8AFE-DD185B8E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729852-ACBC-4B48-A865-3D9821D0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E307CC-853A-4B06-8448-D0D2DB05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8082ED-A354-4FCE-BBEA-4FCBD13E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50C21D-43B1-40D1-9860-F42BFA1D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AA539A-9763-4B8D-BA15-9C23F8D3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CBA0B0-831F-41D0-A215-CD880BD5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19CAA2-4F28-44CA-B88B-E996163B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A0AE23-ABB7-4661-AF34-A5B28BA8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7A7C74-7C5E-450B-8F24-9AEA86461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B0A61-59EB-4202-99BA-CC2C2363E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B3FA4D-ADFC-410D-A8ED-BD287C48A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5F5914-9642-4917-B4E2-738F53A52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A8E51E-9EBA-4281-9251-F4826128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A56FDE-8FA8-4F1C-AE5F-BFB76923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F59001-9728-416A-AD1C-D07DC69B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7BE51A-BA0D-4ED0-896A-DDE138E5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79DFBC-159D-4C09-95DE-6D7A036B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FD2B25-2EBE-4FCB-B193-53BF9A6B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EFEB68-FE33-402E-97C7-7714FAE1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A4533B-3E3D-41C1-A47A-1830E9DB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F54EFA-9619-4F2F-9A8F-C0E7A84C8A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D710CC-313F-4098-A993-16CCC5AD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65B335-7065-45CC-BDDB-265127C61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9314B9-3DEE-495B-A1AF-424A73960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72BA94-F014-464D-A064-48796677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3F22AA-40CB-4D79-838A-B618F129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6E0B89-7A59-4ADC-9349-A94588A3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EEB4A1-F262-4BD3-A549-AB02F865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6260DD-4431-455F-B991-920F1CD5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E34F94-545A-461C-948C-5B000298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E21DD5-0399-42B5-BEB3-01082980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A229CC-2314-4FCE-AF09-B2BFD0D0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DDBCBF-EA20-4EF7-9288-648BA8FC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27C9D1-68C2-4BE8-AA5B-FDE6D48D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B18148-7D84-41D5-983C-9137620F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724C07-FCAB-43EB-BE2D-B77678070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0BBA31-87F6-4A41-948D-CD7534A16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3DAA27-3B92-402D-8645-C0D7AED1E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94FD02-5633-4D68-8CD3-1986ECB9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4AFB38-378B-4809-A503-4F8135A9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43A518-73CC-4CC1-A094-338BBB96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3C54DA-4B3D-408F-A570-2F6FCE47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7EDFE5-C76C-4D59-81F9-43A8ACB6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377226-031F-46FA-B874-82E4861D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5606BB-6231-4BF0-9C85-E3E520D2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91BE2D-F31C-4F9A-824A-188AFA4F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9D5CE9-6765-446C-B220-CFB1F153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8DDABD-A8D8-417A-9D90-62D93BA7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0B8A49-2711-49E5-AD20-B89E347CE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0321EF-35A6-41F5-B588-8D856BBFE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286E56-6C51-49CE-BF60-4D2539671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0ADF58-A657-4F2E-9B70-71883D43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ED7E07-6DA8-4C65-88E5-D9812EA1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ECE8DD-9174-43D1-9239-BCE676C1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E985B2-B1BF-476D-883E-5093B8AB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09C61D-1888-4391-91CC-2DD87AFE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0A58C1-2D19-4289-AC60-092C3DC8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21139C-CAC4-4762-8A60-6739CF50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FDAD55-3861-43A4-98D2-754AEF40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EB408D-AA08-4785-B83B-152E1B35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0E11ED-7029-4D9C-8C5E-020E412E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7CDA73-F403-4363-971C-CE3AFCDAB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8E318F-4C97-4A03-886A-840B79FFF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1A7D7A-74CF-463E-BB54-24033A202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1BC1F-86E3-47A1-9CC7-A95435F2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5EC621-CA74-4FAC-89E8-1B939F7E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17E17F-06E3-4C89-A15A-46B479E6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30C941-8C39-431F-96C9-1F305DA2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7EFC58-12A8-4ABC-BEB3-34093AAD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7A2163-F749-4703-8484-247849D3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7F1B15-5180-4E45-A168-A7E87F74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D72190-54D5-47CC-A5B2-2D44063CC4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08D5C-5291-4F2B-83FB-7491730EF0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47FDD-7B37-46AB-8F23-33C456F3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85B0B-86C5-4040-95BA-20FCED25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7FE01-B881-4202-8988-799BE899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FC619-26C4-45FC-84A1-F8212562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82FE0-7ACC-49FB-A31D-FD35E6E6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E108F-885C-45D7-82BD-E4751BE42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280DC-4F03-43C2-AA23-1E4AA474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8EB81-1862-4D1A-B0C3-EF74C8C7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20951-0008-4476-872B-0F88AF2C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E32D9-9D69-4A95-8153-37C45B24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6F189-3ADA-4BE3-BFFA-2D136377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82D41-AEC9-4F20-8E5E-1B32E05C5C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A261B8-4FA0-4572-BC2A-F449791057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5003B-D6DC-4271-8966-943AC2569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C53D3F-DCFA-433E-B006-2C45ACF4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AF6FCD-9F2C-4ABE-AA44-7D2FD91A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C075C8-8686-482E-B183-D206A09F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B1348A-FF06-4A23-B14F-5B96CB20E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631C16-05B5-477A-8E1B-42DA6870D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3F7041-7F4D-4C5F-8B84-6C066763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672C2F-0667-4175-8882-55899819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D8AA7B-0181-4650-8BC0-01E2A481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4A3094-F245-420D-988D-83A3F473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B2CD6D-AD6C-4B19-8FF6-FBC5925E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38F47-D59A-4A5F-A728-963600394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18C402-1C3C-4F63-A2B6-28DE20BCC0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AFB555-EB76-4769-896D-C1C965E142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35D232-2EC0-4EB4-9AFF-2E52A24E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780ACB-9BFA-4D3F-AC8B-D02231D2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E03A2C-4B35-4826-95C6-10EB7D33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75435A-E4EF-4652-83F9-605A310F2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8DE2D3-E4FF-41FD-ABE3-4716DA609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6C1ECD-E6D7-4A29-9AAA-05DEA68D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99EF8B-A7F4-498D-99BA-D9F8633F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16F5FE-33D1-43F4-BBF5-83943EC4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D7514-AE65-4D8F-821E-01EB896F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CE8B11-92D3-4800-AE3E-EF506965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365791-710B-45A5-9129-D0561B8A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CED768-9037-4B31-B01E-E60B633D47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FB6CE-D784-478E-83BA-E699527DD1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6B27B-37C8-4572-A1BF-89A0E116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88DEC-8C1A-49C2-95F8-9C2B06BD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8C12C-4C5F-4422-B965-6BA097D6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71A09-7BAA-4E0A-8EF3-3A3621835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62CD7-EB3A-44C6-BBA1-B7E8F50F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E1207-9300-452E-96D5-E565550A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C1409-2B89-4CB9-8B2B-0E8CC603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F12F5-DF1A-4DA0-B62E-F83EEE08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93461-DF7A-45F9-BC43-D52E62AD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DAA7F-38AA-442B-9B82-6033418A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CC325-524B-43A9-B03B-8899C0D6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16FEA-535A-4F0E-8F7D-8DE696621F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B80E7E-637C-49B8-A5D7-CA70283F95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B54B97-A507-49CD-B6A0-8D4CE6F8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739C0D-962E-4F92-8319-A971AC34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6A6F92-F0AA-4E9D-A464-E726FB72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CC386F-1259-4015-9C44-4954FE75D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FC024-3255-49A4-A05A-4932F183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3E29AD-467A-49C8-AF2D-DD633538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38EEDB-6BFC-4EEC-BDCF-42AE80E1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DD93CB-15EB-47F7-AAA8-1DE4DBD7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22AD6D-3692-4D3E-AABC-30E22802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21096C-CC36-4E18-B1DC-ADDA00B7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4E878A-6433-460B-AB1E-F3F7683D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0F4D57-C0DC-44AE-AE7E-738AD7E86B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348C4F-B772-440A-850F-3F3B2CEDC2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657AFE-0F61-4077-A861-8D4B9D56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055243-81B0-4132-A926-367A62AC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D41F-92E6-4EAE-A0FC-7DDAA4D6028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274F-DFD3-49A1-BCEE-43FCFDE6DBE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A23A-7D97-4B9B-93FB-A8808D55FD0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D6EF-AFCD-422F-8E87-4A581512291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DF18-1E15-4C0D-B0F9-9B3BEC56FAF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0991-28CB-45A8-B748-504BEBE804A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155B-2555-4A93-A11C-B268BA525D6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040E-7EF9-4077-97C4-2E2F8240178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A573-3090-4549-B6BD-29BEC465024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2FAA-1C0D-4ACA-AED4-E18EF2E7023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8C24-38D0-46A4-90CF-6F2CF3433D1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2CB1-4669-4AF8-A87E-709D5E57230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3F24-0EFE-403A-8CB0-EE186613E00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CFF0-3559-4EC5-BC6F-61ADAA3A1BF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9EC1-D27B-4B1E-8BD4-9D047B8B335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6E42-3896-4491-B1DA-C909BD7EF2A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2654-6089-4B20-9C36-6178B5C611A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DDAE-2233-4966-AE2F-350A622C534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71A2-FF0B-431D-8657-A36C93C8D02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9859-741F-40A4-A506-B3366E6AAC8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1A7B-6DC6-4EDA-82C2-04A378F9752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5C03-737C-474D-BF1B-3C8DF23B769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59F9-CD7E-4C86-BBBC-AF0A88DDB54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E6B7-CB0B-4C34-AC25-77F9C32249F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886120" y="286848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281160" y="2798640"/>
            <a:ext cx="8443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练  习  课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1527120" y="1744560"/>
            <a:ext cx="910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 识 时 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图片 -2147482622" descr="u7bc01"/>
          <p:cNvPicPr/>
          <p:nvPr/>
        </p:nvPicPr>
        <p:blipFill>
          <a:blip r:embed="rId1"/>
          <a:stretch/>
        </p:blipFill>
        <p:spPr>
          <a:xfrm>
            <a:off x="1184400" y="1339920"/>
            <a:ext cx="6103800" cy="2786040"/>
          </a:xfrm>
          <a:prstGeom prst="rect">
            <a:avLst/>
          </a:prstGeom>
          <a:ln w="0">
            <a:noFill/>
          </a:ln>
        </p:spPr>
      </p:pic>
      <p:sp>
        <p:nvSpPr>
          <p:cNvPr id="999" name="文本框 102"/>
          <p:cNvSpPr/>
          <p:nvPr/>
        </p:nvSpPr>
        <p:spPr>
          <a:xfrm>
            <a:off x="425520" y="866880"/>
            <a:ext cx="45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给下面的钟表画上分针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文本框 2"/>
          <p:cNvSpPr/>
          <p:nvPr/>
        </p:nvSpPr>
        <p:spPr>
          <a:xfrm>
            <a:off x="1171440" y="4065480"/>
            <a:ext cx="643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" descr=""/>
          <p:cNvPicPr/>
          <p:nvPr/>
        </p:nvPicPr>
        <p:blipFill>
          <a:blip r:embed="rId2"/>
          <a:stretch/>
        </p:blipFill>
        <p:spPr>
          <a:xfrm rot="1860000">
            <a:off x="2182680" y="2709720"/>
            <a:ext cx="125640" cy="465120"/>
          </a:xfrm>
          <a:prstGeom prst="rect">
            <a:avLst/>
          </a:prstGeom>
          <a:ln w="0">
            <a:noFill/>
          </a:ln>
        </p:spPr>
      </p:pic>
      <p:pic>
        <p:nvPicPr>
          <p:cNvPr id="1002" name="图片 4" descr=""/>
          <p:cNvPicPr/>
          <p:nvPr/>
        </p:nvPicPr>
        <p:blipFill>
          <a:blip r:embed="rId3"/>
          <a:stretch/>
        </p:blipFill>
        <p:spPr>
          <a:xfrm>
            <a:off x="7372440" y="2189160"/>
            <a:ext cx="1347840" cy="179280"/>
          </a:xfrm>
          <a:prstGeom prst="rect">
            <a:avLst/>
          </a:prstGeom>
          <a:ln w="0">
            <a:noFill/>
          </a:ln>
        </p:spPr>
      </p:pic>
      <p:pic>
        <p:nvPicPr>
          <p:cNvPr id="1003" name="图片 6" descr=""/>
          <p:cNvPicPr/>
          <p:nvPr/>
        </p:nvPicPr>
        <p:blipFill>
          <a:blip r:embed="rId4"/>
          <a:stretch/>
        </p:blipFill>
        <p:spPr>
          <a:xfrm rot="5460000">
            <a:off x="6297840" y="2363040"/>
            <a:ext cx="144360" cy="56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4" name="图片 9231" descr="未标题-2"/>
          <p:cNvPicPr/>
          <p:nvPr/>
        </p:nvPicPr>
        <p:blipFill>
          <a:blip r:embed="rId1"/>
          <a:stretch/>
        </p:blipFill>
        <p:spPr>
          <a:xfrm>
            <a:off x="1332000" y="1746360"/>
            <a:ext cx="6480000" cy="3555720"/>
          </a:xfrm>
          <a:prstGeom prst="rect">
            <a:avLst/>
          </a:prstGeom>
          <a:ln w="0">
            <a:noFill/>
          </a:ln>
        </p:spPr>
      </p:pic>
      <p:sp>
        <p:nvSpPr>
          <p:cNvPr id="1005" name="Rectangle 2"/>
          <p:cNvSpPr/>
          <p:nvPr/>
        </p:nvSpPr>
        <p:spPr>
          <a:xfrm>
            <a:off x="533520" y="973080"/>
            <a:ext cx="61434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你能准确写出每个钟表所表示的时间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Box 5"/>
          <p:cNvSpPr/>
          <p:nvPr/>
        </p:nvSpPr>
        <p:spPr>
          <a:xfrm>
            <a:off x="3352680" y="30416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7: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Box 7"/>
          <p:cNvSpPr/>
          <p:nvPr/>
        </p:nvSpPr>
        <p:spPr>
          <a:xfrm>
            <a:off x="4954680" y="30416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7: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Box 8"/>
          <p:cNvSpPr/>
          <p:nvPr/>
        </p:nvSpPr>
        <p:spPr>
          <a:xfrm>
            <a:off x="6540480" y="30416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8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Box 9"/>
          <p:cNvSpPr/>
          <p:nvPr/>
        </p:nvSpPr>
        <p:spPr>
          <a:xfrm>
            <a:off x="3276720" y="47973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10: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Box 11"/>
          <p:cNvSpPr/>
          <p:nvPr/>
        </p:nvSpPr>
        <p:spPr>
          <a:xfrm>
            <a:off x="4964040" y="47973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9: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Box 12"/>
          <p:cNvSpPr/>
          <p:nvPr/>
        </p:nvSpPr>
        <p:spPr>
          <a:xfrm>
            <a:off x="6521400" y="47973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6: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Box 13"/>
          <p:cNvSpPr/>
          <p:nvPr/>
        </p:nvSpPr>
        <p:spPr>
          <a:xfrm>
            <a:off x="1758960" y="47973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1: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3" name="组合 50"/>
          <p:cNvGrpSpPr/>
          <p:nvPr/>
        </p:nvGrpSpPr>
        <p:grpSpPr>
          <a:xfrm>
            <a:off x="558720" y="1050840"/>
            <a:ext cx="2016360" cy="2016360"/>
            <a:chOff x="558720" y="1050840"/>
            <a:chExt cx="2016360" cy="2016360"/>
          </a:xfrm>
        </p:grpSpPr>
        <p:sp>
          <p:nvSpPr>
            <p:cNvPr id="1014" name="Oval 4"/>
            <p:cNvSpPr/>
            <p:nvPr/>
          </p:nvSpPr>
          <p:spPr>
            <a:xfrm>
              <a:off x="558720" y="1050840"/>
              <a:ext cx="2016360" cy="2016360"/>
            </a:xfrm>
            <a:prstGeom prst="ellipse">
              <a:avLst/>
            </a:prstGeom>
            <a:solidFill>
              <a:srgbClr val="f5b9a9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Oval 5"/>
            <p:cNvSpPr/>
            <p:nvPr/>
          </p:nvSpPr>
          <p:spPr>
            <a:xfrm>
              <a:off x="634680" y="1118520"/>
              <a:ext cx="1863360" cy="1867320"/>
            </a:xfrm>
            <a:prstGeom prst="ellipse">
              <a:avLst/>
            </a:prstGeom>
            <a:gradFill rotWithShape="0">
              <a:gsLst>
                <a:gs pos="0">
                  <a:srgbClr val="ccffcc">
                    <a:alpha val="70196"/>
                  </a:srgbClr>
                </a:gs>
                <a:gs pos="100000">
                  <a:srgbClr val="ffffcc">
                    <a:alpha val="65098"/>
                  </a:srgbClr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Line 6"/>
            <p:cNvSpPr/>
            <p:nvPr/>
          </p:nvSpPr>
          <p:spPr>
            <a:xfrm>
              <a:off x="1042200" y="1299960"/>
              <a:ext cx="51120" cy="745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Line 7"/>
            <p:cNvSpPr/>
            <p:nvPr/>
          </p:nvSpPr>
          <p:spPr>
            <a:xfrm>
              <a:off x="1541520" y="2890440"/>
              <a:ext cx="0" cy="990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Line 8"/>
            <p:cNvSpPr/>
            <p:nvPr/>
          </p:nvSpPr>
          <p:spPr>
            <a:xfrm>
              <a:off x="1575720" y="1128960"/>
              <a:ext cx="0" cy="9972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Line 12"/>
            <p:cNvSpPr/>
            <p:nvPr/>
          </p:nvSpPr>
          <p:spPr>
            <a:xfrm flipH="1">
              <a:off x="1987560" y="1249920"/>
              <a:ext cx="50400" cy="997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Line 13"/>
            <p:cNvSpPr/>
            <p:nvPr/>
          </p:nvSpPr>
          <p:spPr>
            <a:xfrm>
              <a:off x="1995840" y="2761920"/>
              <a:ext cx="59040" cy="882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Line 14"/>
            <p:cNvSpPr/>
            <p:nvPr/>
          </p:nvSpPr>
          <p:spPr>
            <a:xfrm flipH="1">
              <a:off x="1079640" y="2748240"/>
              <a:ext cx="55080" cy="9036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Line 15"/>
            <p:cNvSpPr/>
            <p:nvPr/>
          </p:nvSpPr>
          <p:spPr>
            <a:xfrm>
              <a:off x="2395800" y="2072160"/>
              <a:ext cx="10044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Line 16"/>
            <p:cNvSpPr/>
            <p:nvPr/>
          </p:nvSpPr>
          <p:spPr>
            <a:xfrm flipV="1">
              <a:off x="2287440" y="1604880"/>
              <a:ext cx="87120" cy="601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Line 17"/>
            <p:cNvSpPr/>
            <p:nvPr/>
          </p:nvSpPr>
          <p:spPr>
            <a:xfrm>
              <a:off x="2284920" y="2454840"/>
              <a:ext cx="93600" cy="5076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Line 18"/>
            <p:cNvSpPr/>
            <p:nvPr/>
          </p:nvSpPr>
          <p:spPr>
            <a:xfrm flipH="1">
              <a:off x="632880" y="2071080"/>
              <a:ext cx="10224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Line 19"/>
            <p:cNvSpPr/>
            <p:nvPr/>
          </p:nvSpPr>
          <p:spPr>
            <a:xfrm flipH="1">
              <a:off x="761400" y="2490120"/>
              <a:ext cx="88920" cy="6156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Line 20"/>
            <p:cNvSpPr/>
            <p:nvPr/>
          </p:nvSpPr>
          <p:spPr>
            <a:xfrm flipH="1" flipV="1">
              <a:off x="726840" y="1646640"/>
              <a:ext cx="93960" cy="5184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WordArt 21"/>
            <p:cNvSpPr txBox="1"/>
            <p:nvPr/>
          </p:nvSpPr>
          <p:spPr>
            <a:xfrm>
              <a:off x="1909800" y="1375200"/>
              <a:ext cx="77400" cy="9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29" name="WordArt 22"/>
            <p:cNvSpPr txBox="1"/>
            <p:nvPr/>
          </p:nvSpPr>
          <p:spPr>
            <a:xfrm>
              <a:off x="2166120" y="1648800"/>
              <a:ext cx="10080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30" name="WordArt 23"/>
            <p:cNvSpPr txBox="1"/>
            <p:nvPr/>
          </p:nvSpPr>
          <p:spPr>
            <a:xfrm>
              <a:off x="2266920" y="2022120"/>
              <a:ext cx="10188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31" name="WordArt 24"/>
            <p:cNvSpPr txBox="1"/>
            <p:nvPr/>
          </p:nvSpPr>
          <p:spPr>
            <a:xfrm>
              <a:off x="2166120" y="2394720"/>
              <a:ext cx="100800" cy="9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32" name="WordArt 25"/>
            <p:cNvSpPr txBox="1"/>
            <p:nvPr/>
          </p:nvSpPr>
          <p:spPr>
            <a:xfrm>
              <a:off x="1885320" y="2644200"/>
              <a:ext cx="10188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33" name="WordArt 26"/>
            <p:cNvSpPr txBox="1"/>
            <p:nvPr/>
          </p:nvSpPr>
          <p:spPr>
            <a:xfrm>
              <a:off x="1145160" y="2644200"/>
              <a:ext cx="10188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7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34" name="WordArt 27"/>
            <p:cNvSpPr txBox="1"/>
            <p:nvPr/>
          </p:nvSpPr>
          <p:spPr>
            <a:xfrm>
              <a:off x="1502280" y="2768760"/>
              <a:ext cx="10188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6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35" name="WordArt 28"/>
            <p:cNvSpPr txBox="1"/>
            <p:nvPr/>
          </p:nvSpPr>
          <p:spPr>
            <a:xfrm>
              <a:off x="888840" y="2394720"/>
              <a:ext cx="102240" cy="9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8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36" name="WordArt 29"/>
            <p:cNvSpPr txBox="1"/>
            <p:nvPr/>
          </p:nvSpPr>
          <p:spPr>
            <a:xfrm>
              <a:off x="1071000" y="1434600"/>
              <a:ext cx="154080" cy="9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1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37" name="WordArt 30"/>
            <p:cNvSpPr txBox="1"/>
            <p:nvPr/>
          </p:nvSpPr>
          <p:spPr>
            <a:xfrm>
              <a:off x="1476360" y="1249920"/>
              <a:ext cx="179280" cy="12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2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38" name="WordArt 31"/>
            <p:cNvSpPr txBox="1"/>
            <p:nvPr/>
          </p:nvSpPr>
          <p:spPr>
            <a:xfrm>
              <a:off x="869760" y="1671120"/>
              <a:ext cx="152280" cy="12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0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39" name="WordArt 33"/>
            <p:cNvSpPr txBox="1"/>
            <p:nvPr/>
          </p:nvSpPr>
          <p:spPr>
            <a:xfrm>
              <a:off x="762120" y="2022120"/>
              <a:ext cx="10152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9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40" name="Line 34"/>
            <p:cNvSpPr/>
            <p:nvPr/>
          </p:nvSpPr>
          <p:spPr>
            <a:xfrm>
              <a:off x="1528200" y="1723320"/>
              <a:ext cx="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Line 35"/>
            <p:cNvSpPr/>
            <p:nvPr/>
          </p:nvSpPr>
          <p:spPr>
            <a:xfrm>
              <a:off x="1554120" y="1648800"/>
              <a:ext cx="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Line 36"/>
            <p:cNvSpPr/>
            <p:nvPr/>
          </p:nvSpPr>
          <p:spPr>
            <a:xfrm>
              <a:off x="1554120" y="1698840"/>
              <a:ext cx="0" cy="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3" name="Group 68"/>
            <p:cNvGrpSpPr/>
            <p:nvPr/>
          </p:nvGrpSpPr>
          <p:grpSpPr>
            <a:xfrm>
              <a:off x="1542240" y="2075400"/>
              <a:ext cx="399960" cy="640440"/>
              <a:chOff x="1542240" y="2075400"/>
              <a:chExt cx="399960" cy="640440"/>
            </a:xfrm>
          </p:grpSpPr>
          <p:sp>
            <p:nvSpPr>
              <p:cNvPr id="1044" name="AutoShape 69"/>
              <p:cNvSpPr/>
              <p:nvPr/>
            </p:nvSpPr>
            <p:spPr>
              <a:xfrm rot="3540000">
                <a:off x="1425600" y="2334960"/>
                <a:ext cx="643680" cy="66960"/>
              </a:xfrm>
              <a:custGeom>
                <a:avLst/>
                <a:gdLst>
                  <a:gd name="textAreaLeft" fmla="*/ 0 w 643680"/>
                  <a:gd name="textAreaRight" fmla="*/ 644040 w 64368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8562" y="0"/>
                    </a:lnTo>
                    <a:lnTo>
                      <a:pt x="21600" y="10800"/>
                    </a:lnTo>
                    <a:lnTo>
                      <a:pt x="856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AutoShape 70"/>
              <p:cNvSpPr/>
              <p:nvPr/>
            </p:nvSpPr>
            <p:spPr>
              <a:xfrm rot="5400000">
                <a:off x="1278360" y="2408760"/>
                <a:ext cx="570600" cy="43200"/>
              </a:xfrm>
              <a:custGeom>
                <a:avLst/>
                <a:gdLst>
                  <a:gd name="textAreaLeft" fmla="*/ 0 w 570600"/>
                  <a:gd name="textAreaRight" fmla="*/ 570960 w 57060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2126" y="0"/>
                    </a:lnTo>
                    <a:lnTo>
                      <a:pt x="21600" y="10800"/>
                    </a:lnTo>
                    <a:lnTo>
                      <a:pt x="12126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6" name="Group 49"/>
            <p:cNvGrpSpPr/>
            <p:nvPr/>
          </p:nvGrpSpPr>
          <p:grpSpPr>
            <a:xfrm>
              <a:off x="1602000" y="1877040"/>
              <a:ext cx="434880" cy="281880"/>
              <a:chOff x="1602000" y="1877040"/>
              <a:chExt cx="434880" cy="281880"/>
            </a:xfrm>
          </p:grpSpPr>
          <p:sp>
            <p:nvSpPr>
              <p:cNvPr id="1047" name="AutoShape 50"/>
              <p:cNvSpPr/>
              <p:nvPr/>
            </p:nvSpPr>
            <p:spPr>
              <a:xfrm rot="20610600">
                <a:off x="1607400" y="1942200"/>
                <a:ext cx="423360" cy="101520"/>
              </a:xfrm>
              <a:custGeom>
                <a:avLst/>
                <a:gdLst>
                  <a:gd name="textAreaLeft" fmla="*/ 0 w 423360"/>
                  <a:gd name="textAreaRight" fmla="*/ 423720 w 4233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804" y="0"/>
                    </a:lnTo>
                    <a:lnTo>
                      <a:pt x="21600" y="10800"/>
                    </a:lnTo>
                    <a:lnTo>
                      <a:pt x="38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AutoShape 51"/>
              <p:cNvSpPr/>
              <p:nvPr/>
            </p:nvSpPr>
            <p:spPr>
              <a:xfrm rot="19993800">
                <a:off x="1611360" y="1966680"/>
                <a:ext cx="423360" cy="101880"/>
              </a:xfrm>
              <a:custGeom>
                <a:avLst/>
                <a:gdLst>
                  <a:gd name="textAreaLeft" fmla="*/ 0 w 423360"/>
                  <a:gd name="textAreaRight" fmla="*/ 423720 w 4233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804" y="0"/>
                    </a:lnTo>
                    <a:lnTo>
                      <a:pt x="21600" y="10800"/>
                    </a:lnTo>
                    <a:lnTo>
                      <a:pt x="38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9" name="Oval 86"/>
            <p:cNvSpPr/>
            <p:nvPr/>
          </p:nvSpPr>
          <p:spPr>
            <a:xfrm>
              <a:off x="1508400" y="2009880"/>
              <a:ext cx="134640" cy="13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组合 1"/>
          <p:cNvGrpSpPr/>
          <p:nvPr/>
        </p:nvGrpSpPr>
        <p:grpSpPr>
          <a:xfrm>
            <a:off x="3521160" y="1058760"/>
            <a:ext cx="2014560" cy="2016360"/>
            <a:chOff x="3521160" y="1058760"/>
            <a:chExt cx="2014560" cy="2016360"/>
          </a:xfrm>
        </p:grpSpPr>
        <p:sp>
          <p:nvSpPr>
            <p:cNvPr id="1051" name="Oval 4"/>
            <p:cNvSpPr/>
            <p:nvPr/>
          </p:nvSpPr>
          <p:spPr>
            <a:xfrm>
              <a:off x="3521160" y="1058760"/>
              <a:ext cx="2014560" cy="2016360"/>
            </a:xfrm>
            <a:prstGeom prst="ellipse">
              <a:avLst/>
            </a:prstGeom>
            <a:solidFill>
              <a:srgbClr val="f5b9a9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Oval 5"/>
            <p:cNvSpPr/>
            <p:nvPr/>
          </p:nvSpPr>
          <p:spPr>
            <a:xfrm>
              <a:off x="3597120" y="1126440"/>
              <a:ext cx="1861560" cy="1867320"/>
            </a:xfrm>
            <a:prstGeom prst="ellipse">
              <a:avLst/>
            </a:prstGeom>
            <a:gradFill rotWithShape="0">
              <a:gsLst>
                <a:gs pos="0">
                  <a:srgbClr val="ccffcc">
                    <a:alpha val="70196"/>
                  </a:srgbClr>
                </a:gs>
                <a:gs pos="100000">
                  <a:srgbClr val="ffffcc">
                    <a:alpha val="65098"/>
                  </a:srgbClr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Line 6"/>
            <p:cNvSpPr/>
            <p:nvPr/>
          </p:nvSpPr>
          <p:spPr>
            <a:xfrm>
              <a:off x="4004280" y="1307880"/>
              <a:ext cx="51120" cy="745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Line 7"/>
            <p:cNvSpPr/>
            <p:nvPr/>
          </p:nvSpPr>
          <p:spPr>
            <a:xfrm>
              <a:off x="4503240" y="2898360"/>
              <a:ext cx="0" cy="990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Line 8"/>
            <p:cNvSpPr/>
            <p:nvPr/>
          </p:nvSpPr>
          <p:spPr>
            <a:xfrm>
              <a:off x="4537080" y="1136880"/>
              <a:ext cx="0" cy="9972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Line 12"/>
            <p:cNvSpPr/>
            <p:nvPr/>
          </p:nvSpPr>
          <p:spPr>
            <a:xfrm flipH="1">
              <a:off x="4948200" y="1257840"/>
              <a:ext cx="50040" cy="997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Line 13"/>
            <p:cNvSpPr/>
            <p:nvPr/>
          </p:nvSpPr>
          <p:spPr>
            <a:xfrm>
              <a:off x="4956840" y="2769840"/>
              <a:ext cx="58680" cy="882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Line 14"/>
            <p:cNvSpPr/>
            <p:nvPr/>
          </p:nvSpPr>
          <p:spPr>
            <a:xfrm flipH="1">
              <a:off x="4041720" y="2756160"/>
              <a:ext cx="55080" cy="9036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Line 15"/>
            <p:cNvSpPr/>
            <p:nvPr/>
          </p:nvSpPr>
          <p:spPr>
            <a:xfrm>
              <a:off x="5356800" y="2080080"/>
              <a:ext cx="10044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Line 16"/>
            <p:cNvSpPr/>
            <p:nvPr/>
          </p:nvSpPr>
          <p:spPr>
            <a:xfrm flipV="1">
              <a:off x="5248080" y="1612800"/>
              <a:ext cx="87120" cy="601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Line 17"/>
            <p:cNvSpPr/>
            <p:nvPr/>
          </p:nvSpPr>
          <p:spPr>
            <a:xfrm>
              <a:off x="5245200" y="2462760"/>
              <a:ext cx="93240" cy="5076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Line 18"/>
            <p:cNvSpPr/>
            <p:nvPr/>
          </p:nvSpPr>
          <p:spPr>
            <a:xfrm flipH="1">
              <a:off x="3594960" y="2079000"/>
              <a:ext cx="10188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Line 19"/>
            <p:cNvSpPr/>
            <p:nvPr/>
          </p:nvSpPr>
          <p:spPr>
            <a:xfrm flipH="1">
              <a:off x="3723480" y="2498040"/>
              <a:ext cx="88920" cy="6156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Line 20"/>
            <p:cNvSpPr/>
            <p:nvPr/>
          </p:nvSpPr>
          <p:spPr>
            <a:xfrm flipH="1" flipV="1">
              <a:off x="3689280" y="1654560"/>
              <a:ext cx="93960" cy="5184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WordArt 21"/>
            <p:cNvSpPr txBox="1"/>
            <p:nvPr/>
          </p:nvSpPr>
          <p:spPr>
            <a:xfrm>
              <a:off x="4871160" y="1383120"/>
              <a:ext cx="77400" cy="9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66" name="WordArt 22"/>
            <p:cNvSpPr txBox="1"/>
            <p:nvPr/>
          </p:nvSpPr>
          <p:spPr>
            <a:xfrm>
              <a:off x="5127120" y="1656720"/>
              <a:ext cx="10044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67" name="WordArt 23"/>
            <p:cNvSpPr txBox="1"/>
            <p:nvPr/>
          </p:nvSpPr>
          <p:spPr>
            <a:xfrm>
              <a:off x="5227920" y="2030040"/>
              <a:ext cx="10188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68" name="WordArt 24"/>
            <p:cNvSpPr txBox="1"/>
            <p:nvPr/>
          </p:nvSpPr>
          <p:spPr>
            <a:xfrm>
              <a:off x="5127120" y="2402640"/>
              <a:ext cx="100440" cy="9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69" name="WordArt 25"/>
            <p:cNvSpPr txBox="1"/>
            <p:nvPr/>
          </p:nvSpPr>
          <p:spPr>
            <a:xfrm>
              <a:off x="4846680" y="2652120"/>
              <a:ext cx="10188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70" name="WordArt 26"/>
            <p:cNvSpPr txBox="1"/>
            <p:nvPr/>
          </p:nvSpPr>
          <p:spPr>
            <a:xfrm>
              <a:off x="4107240" y="2652120"/>
              <a:ext cx="10188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7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71" name="WordArt 27"/>
            <p:cNvSpPr txBox="1"/>
            <p:nvPr/>
          </p:nvSpPr>
          <p:spPr>
            <a:xfrm>
              <a:off x="4464000" y="2776680"/>
              <a:ext cx="10188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6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72" name="WordArt 28"/>
            <p:cNvSpPr txBox="1"/>
            <p:nvPr/>
          </p:nvSpPr>
          <p:spPr>
            <a:xfrm>
              <a:off x="3850920" y="2402640"/>
              <a:ext cx="101880" cy="9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8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73" name="WordArt 29"/>
            <p:cNvSpPr txBox="1"/>
            <p:nvPr/>
          </p:nvSpPr>
          <p:spPr>
            <a:xfrm>
              <a:off x="4033080" y="1442520"/>
              <a:ext cx="153720" cy="9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1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74" name="WordArt 30"/>
            <p:cNvSpPr txBox="1"/>
            <p:nvPr/>
          </p:nvSpPr>
          <p:spPr>
            <a:xfrm>
              <a:off x="4437720" y="1257840"/>
              <a:ext cx="178920" cy="12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2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75" name="WordArt 31"/>
            <p:cNvSpPr txBox="1"/>
            <p:nvPr/>
          </p:nvSpPr>
          <p:spPr>
            <a:xfrm>
              <a:off x="3831840" y="1679040"/>
              <a:ext cx="152280" cy="12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0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76" name="WordArt 33"/>
            <p:cNvSpPr txBox="1"/>
            <p:nvPr/>
          </p:nvSpPr>
          <p:spPr>
            <a:xfrm>
              <a:off x="3724200" y="2030040"/>
              <a:ext cx="10152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9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77" name="Line 34"/>
            <p:cNvSpPr/>
            <p:nvPr/>
          </p:nvSpPr>
          <p:spPr>
            <a:xfrm>
              <a:off x="4489560" y="1731240"/>
              <a:ext cx="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Line 35"/>
            <p:cNvSpPr/>
            <p:nvPr/>
          </p:nvSpPr>
          <p:spPr>
            <a:xfrm>
              <a:off x="4515840" y="1656720"/>
              <a:ext cx="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Line 36"/>
            <p:cNvSpPr/>
            <p:nvPr/>
          </p:nvSpPr>
          <p:spPr>
            <a:xfrm>
              <a:off x="4515840" y="1706760"/>
              <a:ext cx="0" cy="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68"/>
            <p:cNvGrpSpPr/>
            <p:nvPr/>
          </p:nvGrpSpPr>
          <p:grpSpPr>
            <a:xfrm>
              <a:off x="3847680" y="2036520"/>
              <a:ext cx="698760" cy="687240"/>
              <a:chOff x="3847680" y="2036520"/>
              <a:chExt cx="698760" cy="687240"/>
            </a:xfrm>
          </p:grpSpPr>
          <p:sp>
            <p:nvSpPr>
              <p:cNvPr id="1081" name="AutoShape 69"/>
              <p:cNvSpPr/>
              <p:nvPr/>
            </p:nvSpPr>
            <p:spPr>
              <a:xfrm rot="10800000">
                <a:off x="3847680" y="2036520"/>
                <a:ext cx="643680" cy="66960"/>
              </a:xfrm>
              <a:custGeom>
                <a:avLst/>
                <a:gdLst>
                  <a:gd name="textAreaLeft" fmla="*/ 0 w 643680"/>
                  <a:gd name="textAreaRight" fmla="*/ 644040 w 64368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1826" y="0"/>
                    </a:lnTo>
                    <a:lnTo>
                      <a:pt x="21600" y="10800"/>
                    </a:lnTo>
                    <a:lnTo>
                      <a:pt x="11826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AutoShape 70"/>
              <p:cNvSpPr/>
              <p:nvPr/>
            </p:nvSpPr>
            <p:spPr>
              <a:xfrm rot="5400000">
                <a:off x="4239000" y="2416320"/>
                <a:ext cx="571320" cy="4320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2126" y="0"/>
                    </a:lnTo>
                    <a:lnTo>
                      <a:pt x="21600" y="10800"/>
                    </a:lnTo>
                    <a:lnTo>
                      <a:pt x="12126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Group 49"/>
            <p:cNvGrpSpPr/>
            <p:nvPr/>
          </p:nvGrpSpPr>
          <p:grpSpPr>
            <a:xfrm>
              <a:off x="4552920" y="1748520"/>
              <a:ext cx="443160" cy="417600"/>
              <a:chOff x="4552920" y="1748520"/>
              <a:chExt cx="443160" cy="417600"/>
            </a:xfrm>
          </p:grpSpPr>
          <p:sp>
            <p:nvSpPr>
              <p:cNvPr id="1084" name="AutoShape 50"/>
              <p:cNvSpPr/>
              <p:nvPr/>
            </p:nvSpPr>
            <p:spPr>
              <a:xfrm rot="19290600">
                <a:off x="4538160" y="1869120"/>
                <a:ext cx="423360" cy="101520"/>
              </a:xfrm>
              <a:custGeom>
                <a:avLst/>
                <a:gdLst>
                  <a:gd name="textAreaLeft" fmla="*/ 0 w 423360"/>
                  <a:gd name="textAreaRight" fmla="*/ 423720 w 4233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804" y="0"/>
                    </a:lnTo>
                    <a:lnTo>
                      <a:pt x="21600" y="10800"/>
                    </a:lnTo>
                    <a:lnTo>
                      <a:pt x="38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AutoShape 51"/>
              <p:cNvSpPr/>
              <p:nvPr/>
            </p:nvSpPr>
            <p:spPr>
              <a:xfrm rot="19993800">
                <a:off x="4572360" y="1974240"/>
                <a:ext cx="423360" cy="101520"/>
              </a:xfrm>
              <a:custGeom>
                <a:avLst/>
                <a:gdLst>
                  <a:gd name="textAreaLeft" fmla="*/ 0 w 423360"/>
                  <a:gd name="textAreaRight" fmla="*/ 423720 w 4233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804" y="0"/>
                    </a:lnTo>
                    <a:lnTo>
                      <a:pt x="21600" y="10800"/>
                    </a:lnTo>
                    <a:lnTo>
                      <a:pt x="38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6" name="Oval 86"/>
            <p:cNvSpPr/>
            <p:nvPr/>
          </p:nvSpPr>
          <p:spPr>
            <a:xfrm>
              <a:off x="4469760" y="2017800"/>
              <a:ext cx="134640" cy="13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7" name="组合 47"/>
          <p:cNvGrpSpPr/>
          <p:nvPr/>
        </p:nvGrpSpPr>
        <p:grpSpPr>
          <a:xfrm>
            <a:off x="6473880" y="1058760"/>
            <a:ext cx="2016000" cy="2016360"/>
            <a:chOff x="6473880" y="1058760"/>
            <a:chExt cx="2016000" cy="2016360"/>
          </a:xfrm>
        </p:grpSpPr>
        <p:sp>
          <p:nvSpPr>
            <p:cNvPr id="1088" name="Oval 4"/>
            <p:cNvSpPr/>
            <p:nvPr/>
          </p:nvSpPr>
          <p:spPr>
            <a:xfrm>
              <a:off x="6473880" y="1058760"/>
              <a:ext cx="2016000" cy="2016360"/>
            </a:xfrm>
            <a:prstGeom prst="ellipse">
              <a:avLst/>
            </a:prstGeom>
            <a:solidFill>
              <a:srgbClr val="f5b9a9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Oval 5"/>
            <p:cNvSpPr/>
            <p:nvPr/>
          </p:nvSpPr>
          <p:spPr>
            <a:xfrm>
              <a:off x="6549840" y="1126440"/>
              <a:ext cx="1863000" cy="1867320"/>
            </a:xfrm>
            <a:prstGeom prst="ellipse">
              <a:avLst/>
            </a:prstGeom>
            <a:gradFill rotWithShape="0">
              <a:gsLst>
                <a:gs pos="0">
                  <a:srgbClr val="ccffcc">
                    <a:alpha val="70196"/>
                  </a:srgbClr>
                </a:gs>
                <a:gs pos="100000">
                  <a:srgbClr val="ffffcc">
                    <a:alpha val="65098"/>
                  </a:srgbClr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Line 6"/>
            <p:cNvSpPr/>
            <p:nvPr/>
          </p:nvSpPr>
          <p:spPr>
            <a:xfrm>
              <a:off x="6957360" y="1307880"/>
              <a:ext cx="51120" cy="745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Line 7"/>
            <p:cNvSpPr/>
            <p:nvPr/>
          </p:nvSpPr>
          <p:spPr>
            <a:xfrm>
              <a:off x="7456680" y="2898360"/>
              <a:ext cx="0" cy="990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Line 8"/>
            <p:cNvSpPr/>
            <p:nvPr/>
          </p:nvSpPr>
          <p:spPr>
            <a:xfrm>
              <a:off x="7490520" y="1136880"/>
              <a:ext cx="0" cy="9972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Line 12"/>
            <p:cNvSpPr/>
            <p:nvPr/>
          </p:nvSpPr>
          <p:spPr>
            <a:xfrm flipH="1">
              <a:off x="7902000" y="1257840"/>
              <a:ext cx="50040" cy="997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Line 13"/>
            <p:cNvSpPr/>
            <p:nvPr/>
          </p:nvSpPr>
          <p:spPr>
            <a:xfrm>
              <a:off x="7910640" y="2769840"/>
              <a:ext cx="58680" cy="882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Line 14"/>
            <p:cNvSpPr/>
            <p:nvPr/>
          </p:nvSpPr>
          <p:spPr>
            <a:xfrm flipH="1">
              <a:off x="6994800" y="2756160"/>
              <a:ext cx="55080" cy="9036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Line 15"/>
            <p:cNvSpPr/>
            <p:nvPr/>
          </p:nvSpPr>
          <p:spPr>
            <a:xfrm>
              <a:off x="8310600" y="2080080"/>
              <a:ext cx="10044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Line 16"/>
            <p:cNvSpPr/>
            <p:nvPr/>
          </p:nvSpPr>
          <p:spPr>
            <a:xfrm flipV="1">
              <a:off x="8202240" y="1612800"/>
              <a:ext cx="87120" cy="601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Line 17"/>
            <p:cNvSpPr/>
            <p:nvPr/>
          </p:nvSpPr>
          <p:spPr>
            <a:xfrm>
              <a:off x="8199720" y="2462760"/>
              <a:ext cx="93600" cy="5076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Line 18"/>
            <p:cNvSpPr/>
            <p:nvPr/>
          </p:nvSpPr>
          <p:spPr>
            <a:xfrm flipH="1">
              <a:off x="6548040" y="2079000"/>
              <a:ext cx="10224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Line 19"/>
            <p:cNvSpPr/>
            <p:nvPr/>
          </p:nvSpPr>
          <p:spPr>
            <a:xfrm flipH="1">
              <a:off x="6676560" y="2498040"/>
              <a:ext cx="88920" cy="6156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Line 20"/>
            <p:cNvSpPr/>
            <p:nvPr/>
          </p:nvSpPr>
          <p:spPr>
            <a:xfrm flipH="1" flipV="1">
              <a:off x="6642000" y="1654560"/>
              <a:ext cx="93960" cy="5184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WordArt 21"/>
            <p:cNvSpPr txBox="1"/>
            <p:nvPr/>
          </p:nvSpPr>
          <p:spPr>
            <a:xfrm>
              <a:off x="7824960" y="1383120"/>
              <a:ext cx="77400" cy="9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03" name="WordArt 22"/>
            <p:cNvSpPr txBox="1"/>
            <p:nvPr/>
          </p:nvSpPr>
          <p:spPr>
            <a:xfrm>
              <a:off x="8080920" y="1656720"/>
              <a:ext cx="10044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04" name="WordArt 23"/>
            <p:cNvSpPr txBox="1"/>
            <p:nvPr/>
          </p:nvSpPr>
          <p:spPr>
            <a:xfrm>
              <a:off x="8181720" y="2030040"/>
              <a:ext cx="10188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05" name="WordArt 24"/>
            <p:cNvSpPr txBox="1"/>
            <p:nvPr/>
          </p:nvSpPr>
          <p:spPr>
            <a:xfrm>
              <a:off x="8080920" y="2402640"/>
              <a:ext cx="100440" cy="9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06" name="WordArt 25"/>
            <p:cNvSpPr txBox="1"/>
            <p:nvPr/>
          </p:nvSpPr>
          <p:spPr>
            <a:xfrm>
              <a:off x="7800120" y="2652120"/>
              <a:ext cx="10188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07" name="WordArt 26"/>
            <p:cNvSpPr txBox="1"/>
            <p:nvPr/>
          </p:nvSpPr>
          <p:spPr>
            <a:xfrm>
              <a:off x="7060320" y="2652120"/>
              <a:ext cx="10188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7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08" name="WordArt 27"/>
            <p:cNvSpPr txBox="1"/>
            <p:nvPr/>
          </p:nvSpPr>
          <p:spPr>
            <a:xfrm>
              <a:off x="7417440" y="2776680"/>
              <a:ext cx="10188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6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09" name="WordArt 28"/>
            <p:cNvSpPr txBox="1"/>
            <p:nvPr/>
          </p:nvSpPr>
          <p:spPr>
            <a:xfrm>
              <a:off x="6804000" y="2402640"/>
              <a:ext cx="102240" cy="9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8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10" name="WordArt 29"/>
            <p:cNvSpPr txBox="1"/>
            <p:nvPr/>
          </p:nvSpPr>
          <p:spPr>
            <a:xfrm>
              <a:off x="6986160" y="1442520"/>
              <a:ext cx="153720" cy="9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1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11" name="WordArt 30"/>
            <p:cNvSpPr txBox="1"/>
            <p:nvPr/>
          </p:nvSpPr>
          <p:spPr>
            <a:xfrm>
              <a:off x="7391160" y="1257840"/>
              <a:ext cx="178920" cy="12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2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12" name="WordArt 31"/>
            <p:cNvSpPr txBox="1"/>
            <p:nvPr/>
          </p:nvSpPr>
          <p:spPr>
            <a:xfrm>
              <a:off x="6784920" y="1679040"/>
              <a:ext cx="152280" cy="12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0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13" name="WordArt 33"/>
            <p:cNvSpPr txBox="1"/>
            <p:nvPr/>
          </p:nvSpPr>
          <p:spPr>
            <a:xfrm>
              <a:off x="6677280" y="2030040"/>
              <a:ext cx="10152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9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14" name="Line 34"/>
            <p:cNvSpPr/>
            <p:nvPr/>
          </p:nvSpPr>
          <p:spPr>
            <a:xfrm>
              <a:off x="7443000" y="1731240"/>
              <a:ext cx="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Line 35"/>
            <p:cNvSpPr/>
            <p:nvPr/>
          </p:nvSpPr>
          <p:spPr>
            <a:xfrm>
              <a:off x="7469280" y="1656720"/>
              <a:ext cx="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Line 36"/>
            <p:cNvSpPr/>
            <p:nvPr/>
          </p:nvSpPr>
          <p:spPr>
            <a:xfrm>
              <a:off x="7469280" y="1706760"/>
              <a:ext cx="0" cy="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7" name="Group 68"/>
            <p:cNvGrpSpPr/>
            <p:nvPr/>
          </p:nvGrpSpPr>
          <p:grpSpPr>
            <a:xfrm>
              <a:off x="7457040" y="1700280"/>
              <a:ext cx="654120" cy="1023480"/>
              <a:chOff x="7457040" y="1700280"/>
              <a:chExt cx="654120" cy="1023480"/>
            </a:xfrm>
          </p:grpSpPr>
          <p:sp>
            <p:nvSpPr>
              <p:cNvPr id="1118" name="AutoShape 69"/>
              <p:cNvSpPr/>
              <p:nvPr/>
            </p:nvSpPr>
            <p:spPr>
              <a:xfrm rot="19680000">
                <a:off x="7498800" y="1865520"/>
                <a:ext cx="643320" cy="66960"/>
              </a:xfrm>
              <a:custGeom>
                <a:avLst/>
                <a:gdLst>
                  <a:gd name="textAreaLeft" fmla="*/ 0 w 643320"/>
                  <a:gd name="textAreaRight" fmla="*/ 643680 w 64332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1826" y="0"/>
                    </a:lnTo>
                    <a:lnTo>
                      <a:pt x="21600" y="10800"/>
                    </a:lnTo>
                    <a:lnTo>
                      <a:pt x="11826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AutoShape 70"/>
              <p:cNvSpPr/>
              <p:nvPr/>
            </p:nvSpPr>
            <p:spPr>
              <a:xfrm rot="5400000">
                <a:off x="7192800" y="2416320"/>
                <a:ext cx="571320" cy="4320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2126" y="0"/>
                    </a:lnTo>
                    <a:lnTo>
                      <a:pt x="21600" y="10800"/>
                    </a:lnTo>
                    <a:lnTo>
                      <a:pt x="12126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0" name="Group 49"/>
            <p:cNvGrpSpPr/>
            <p:nvPr/>
          </p:nvGrpSpPr>
          <p:grpSpPr>
            <a:xfrm>
              <a:off x="7010640" y="1883880"/>
              <a:ext cx="939600" cy="281520"/>
              <a:chOff x="7010640" y="1883880"/>
              <a:chExt cx="939600" cy="281520"/>
            </a:xfrm>
          </p:grpSpPr>
          <p:sp>
            <p:nvSpPr>
              <p:cNvPr id="1121" name="AutoShape 50"/>
              <p:cNvSpPr/>
              <p:nvPr/>
            </p:nvSpPr>
            <p:spPr>
              <a:xfrm rot="11130600">
                <a:off x="7014600" y="2006640"/>
                <a:ext cx="423000" cy="101520"/>
              </a:xfrm>
              <a:custGeom>
                <a:avLst/>
                <a:gdLst>
                  <a:gd name="textAreaLeft" fmla="*/ 0 w 423000"/>
                  <a:gd name="textAreaRight" fmla="*/ 423360 w 42300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" y="0"/>
                    </a:lnTo>
                    <a:lnTo>
                      <a:pt x="21600" y="10800"/>
                    </a:lnTo>
                    <a:lnTo>
                      <a:pt x="1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AutoShape 51"/>
              <p:cNvSpPr/>
              <p:nvPr/>
            </p:nvSpPr>
            <p:spPr>
              <a:xfrm rot="19993800">
                <a:off x="7526520" y="1973520"/>
                <a:ext cx="423360" cy="101520"/>
              </a:xfrm>
              <a:custGeom>
                <a:avLst/>
                <a:gdLst>
                  <a:gd name="textAreaLeft" fmla="*/ 0 w 423360"/>
                  <a:gd name="textAreaRight" fmla="*/ 423720 w 4233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804" y="0"/>
                    </a:lnTo>
                    <a:lnTo>
                      <a:pt x="21600" y="10800"/>
                    </a:lnTo>
                    <a:lnTo>
                      <a:pt x="38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3" name="Oval 86"/>
            <p:cNvSpPr/>
            <p:nvPr/>
          </p:nvSpPr>
          <p:spPr>
            <a:xfrm>
              <a:off x="7423200" y="2017800"/>
              <a:ext cx="134640" cy="13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4" name="文本框 233"/>
          <p:cNvSpPr/>
          <p:nvPr/>
        </p:nvSpPr>
        <p:spPr>
          <a:xfrm>
            <a:off x="272880" y="608040"/>
            <a:ext cx="10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填一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文本框 234"/>
          <p:cNvSpPr/>
          <p:nvPr/>
        </p:nvSpPr>
        <p:spPr>
          <a:xfrm>
            <a:off x="352440" y="3141720"/>
            <a:ext cx="83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分是（          ）        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分是（           ）     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分是（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文本框 235"/>
          <p:cNvSpPr/>
          <p:nvPr/>
        </p:nvSpPr>
        <p:spPr>
          <a:xfrm>
            <a:off x="351000" y="5746680"/>
            <a:ext cx="83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分是（          ）     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分是（           ）     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分是（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组合 238"/>
          <p:cNvGrpSpPr/>
          <p:nvPr/>
        </p:nvGrpSpPr>
        <p:grpSpPr>
          <a:xfrm>
            <a:off x="515880" y="3656160"/>
            <a:ext cx="2016360" cy="2016000"/>
            <a:chOff x="515880" y="3656160"/>
            <a:chExt cx="2016360" cy="2016000"/>
          </a:xfrm>
        </p:grpSpPr>
        <p:sp>
          <p:nvSpPr>
            <p:cNvPr id="1128" name="Oval 4"/>
            <p:cNvSpPr/>
            <p:nvPr/>
          </p:nvSpPr>
          <p:spPr>
            <a:xfrm>
              <a:off x="515880" y="3656160"/>
              <a:ext cx="2016360" cy="2016000"/>
            </a:xfrm>
            <a:prstGeom prst="ellipse">
              <a:avLst/>
            </a:prstGeom>
            <a:solidFill>
              <a:srgbClr val="f5b9a9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Oval 5"/>
            <p:cNvSpPr/>
            <p:nvPr/>
          </p:nvSpPr>
          <p:spPr>
            <a:xfrm>
              <a:off x="591840" y="3723840"/>
              <a:ext cx="1863360" cy="1866960"/>
            </a:xfrm>
            <a:prstGeom prst="ellipse">
              <a:avLst/>
            </a:prstGeom>
            <a:gradFill rotWithShape="0">
              <a:gsLst>
                <a:gs pos="0">
                  <a:srgbClr val="ccffcc">
                    <a:alpha val="70196"/>
                  </a:srgbClr>
                </a:gs>
                <a:gs pos="100000">
                  <a:srgbClr val="ffffcc">
                    <a:alpha val="65098"/>
                  </a:srgbClr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Line 6"/>
            <p:cNvSpPr/>
            <p:nvPr/>
          </p:nvSpPr>
          <p:spPr>
            <a:xfrm>
              <a:off x="999360" y="3905280"/>
              <a:ext cx="51120" cy="745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Line 7"/>
            <p:cNvSpPr/>
            <p:nvPr/>
          </p:nvSpPr>
          <p:spPr>
            <a:xfrm>
              <a:off x="1498680" y="5495400"/>
              <a:ext cx="0" cy="990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Line 8"/>
            <p:cNvSpPr/>
            <p:nvPr/>
          </p:nvSpPr>
          <p:spPr>
            <a:xfrm>
              <a:off x="1532880" y="3734280"/>
              <a:ext cx="0" cy="9972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Line 12"/>
            <p:cNvSpPr/>
            <p:nvPr/>
          </p:nvSpPr>
          <p:spPr>
            <a:xfrm flipH="1">
              <a:off x="1944720" y="3855240"/>
              <a:ext cx="50400" cy="997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Line 13"/>
            <p:cNvSpPr/>
            <p:nvPr/>
          </p:nvSpPr>
          <p:spPr>
            <a:xfrm>
              <a:off x="1953000" y="5366880"/>
              <a:ext cx="59040" cy="882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Line 14"/>
            <p:cNvSpPr/>
            <p:nvPr/>
          </p:nvSpPr>
          <p:spPr>
            <a:xfrm flipH="1">
              <a:off x="1036800" y="5353560"/>
              <a:ext cx="55080" cy="9036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Line 15"/>
            <p:cNvSpPr/>
            <p:nvPr/>
          </p:nvSpPr>
          <p:spPr>
            <a:xfrm>
              <a:off x="2352960" y="4677120"/>
              <a:ext cx="10044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Line 16"/>
            <p:cNvSpPr/>
            <p:nvPr/>
          </p:nvSpPr>
          <p:spPr>
            <a:xfrm flipV="1">
              <a:off x="2244600" y="4210200"/>
              <a:ext cx="87120" cy="601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Line 17"/>
            <p:cNvSpPr/>
            <p:nvPr/>
          </p:nvSpPr>
          <p:spPr>
            <a:xfrm>
              <a:off x="2242080" y="5059800"/>
              <a:ext cx="93600" cy="5076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Line 18"/>
            <p:cNvSpPr/>
            <p:nvPr/>
          </p:nvSpPr>
          <p:spPr>
            <a:xfrm flipH="1">
              <a:off x="590040" y="4676040"/>
              <a:ext cx="10224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Line 19"/>
            <p:cNvSpPr/>
            <p:nvPr/>
          </p:nvSpPr>
          <p:spPr>
            <a:xfrm flipH="1">
              <a:off x="718560" y="5095440"/>
              <a:ext cx="88920" cy="6156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Line 20"/>
            <p:cNvSpPr/>
            <p:nvPr/>
          </p:nvSpPr>
          <p:spPr>
            <a:xfrm flipH="1" flipV="1">
              <a:off x="684000" y="4251600"/>
              <a:ext cx="93960" cy="5184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WordArt 21"/>
            <p:cNvSpPr txBox="1"/>
            <p:nvPr/>
          </p:nvSpPr>
          <p:spPr>
            <a:xfrm>
              <a:off x="1866960" y="3980520"/>
              <a:ext cx="77400" cy="9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43" name="WordArt 22"/>
            <p:cNvSpPr txBox="1"/>
            <p:nvPr/>
          </p:nvSpPr>
          <p:spPr>
            <a:xfrm>
              <a:off x="2123280" y="4253760"/>
              <a:ext cx="10080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44" name="WordArt 23"/>
            <p:cNvSpPr txBox="1"/>
            <p:nvPr/>
          </p:nvSpPr>
          <p:spPr>
            <a:xfrm>
              <a:off x="2224080" y="4627080"/>
              <a:ext cx="10188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45" name="WordArt 24"/>
            <p:cNvSpPr txBox="1"/>
            <p:nvPr/>
          </p:nvSpPr>
          <p:spPr>
            <a:xfrm>
              <a:off x="2123280" y="4999680"/>
              <a:ext cx="100800" cy="9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46" name="WordArt 25"/>
            <p:cNvSpPr txBox="1"/>
            <p:nvPr/>
          </p:nvSpPr>
          <p:spPr>
            <a:xfrm>
              <a:off x="1842480" y="5249160"/>
              <a:ext cx="10188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47" name="WordArt 26"/>
            <p:cNvSpPr txBox="1"/>
            <p:nvPr/>
          </p:nvSpPr>
          <p:spPr>
            <a:xfrm>
              <a:off x="1102320" y="5249160"/>
              <a:ext cx="10188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7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48" name="WordArt 27"/>
            <p:cNvSpPr txBox="1"/>
            <p:nvPr/>
          </p:nvSpPr>
          <p:spPr>
            <a:xfrm>
              <a:off x="1459440" y="5373720"/>
              <a:ext cx="10188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6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49" name="WordArt 28"/>
            <p:cNvSpPr txBox="1"/>
            <p:nvPr/>
          </p:nvSpPr>
          <p:spPr>
            <a:xfrm>
              <a:off x="846000" y="4999680"/>
              <a:ext cx="102240" cy="9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8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50" name="WordArt 29"/>
            <p:cNvSpPr txBox="1"/>
            <p:nvPr/>
          </p:nvSpPr>
          <p:spPr>
            <a:xfrm>
              <a:off x="1028160" y="4039560"/>
              <a:ext cx="154080" cy="9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1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51" name="WordArt 30"/>
            <p:cNvSpPr txBox="1"/>
            <p:nvPr/>
          </p:nvSpPr>
          <p:spPr>
            <a:xfrm>
              <a:off x="1433520" y="3855240"/>
              <a:ext cx="179280" cy="12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2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52" name="WordArt 31"/>
            <p:cNvSpPr txBox="1"/>
            <p:nvPr/>
          </p:nvSpPr>
          <p:spPr>
            <a:xfrm>
              <a:off x="826920" y="4276080"/>
              <a:ext cx="152280" cy="12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0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53" name="WordArt 33"/>
            <p:cNvSpPr txBox="1"/>
            <p:nvPr/>
          </p:nvSpPr>
          <p:spPr>
            <a:xfrm>
              <a:off x="719280" y="4627080"/>
              <a:ext cx="10152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9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54" name="Line 34"/>
            <p:cNvSpPr/>
            <p:nvPr/>
          </p:nvSpPr>
          <p:spPr>
            <a:xfrm>
              <a:off x="1485360" y="4328640"/>
              <a:ext cx="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Line 35"/>
            <p:cNvSpPr/>
            <p:nvPr/>
          </p:nvSpPr>
          <p:spPr>
            <a:xfrm>
              <a:off x="1511280" y="4253760"/>
              <a:ext cx="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Line 36"/>
            <p:cNvSpPr/>
            <p:nvPr/>
          </p:nvSpPr>
          <p:spPr>
            <a:xfrm>
              <a:off x="1511280" y="4303800"/>
              <a:ext cx="0" cy="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7" name="Group 68"/>
            <p:cNvGrpSpPr/>
            <p:nvPr/>
          </p:nvGrpSpPr>
          <p:grpSpPr>
            <a:xfrm>
              <a:off x="1499400" y="4680720"/>
              <a:ext cx="399960" cy="640440"/>
              <a:chOff x="1499400" y="4680720"/>
              <a:chExt cx="399960" cy="640440"/>
            </a:xfrm>
          </p:grpSpPr>
          <p:sp>
            <p:nvSpPr>
              <p:cNvPr id="1158" name="AutoShape 69"/>
              <p:cNvSpPr/>
              <p:nvPr/>
            </p:nvSpPr>
            <p:spPr>
              <a:xfrm rot="3540000">
                <a:off x="1382760" y="4940280"/>
                <a:ext cx="643680" cy="66960"/>
              </a:xfrm>
              <a:custGeom>
                <a:avLst/>
                <a:gdLst>
                  <a:gd name="textAreaLeft" fmla="*/ 0 w 643680"/>
                  <a:gd name="textAreaRight" fmla="*/ 644040 w 64368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8562" y="0"/>
                    </a:lnTo>
                    <a:lnTo>
                      <a:pt x="21600" y="10800"/>
                    </a:lnTo>
                    <a:lnTo>
                      <a:pt x="856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AutoShape 70"/>
              <p:cNvSpPr/>
              <p:nvPr/>
            </p:nvSpPr>
            <p:spPr>
              <a:xfrm rot="5400000">
                <a:off x="1235520" y="5014080"/>
                <a:ext cx="570600" cy="43200"/>
              </a:xfrm>
              <a:custGeom>
                <a:avLst/>
                <a:gdLst>
                  <a:gd name="textAreaLeft" fmla="*/ 0 w 570600"/>
                  <a:gd name="textAreaRight" fmla="*/ 570960 w 57060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2126" y="0"/>
                    </a:lnTo>
                    <a:lnTo>
                      <a:pt x="21600" y="10800"/>
                    </a:lnTo>
                    <a:lnTo>
                      <a:pt x="12126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Group 49"/>
            <p:cNvGrpSpPr/>
            <p:nvPr/>
          </p:nvGrpSpPr>
          <p:grpSpPr>
            <a:xfrm>
              <a:off x="1559520" y="4482720"/>
              <a:ext cx="434520" cy="281520"/>
              <a:chOff x="1559520" y="4482720"/>
              <a:chExt cx="434520" cy="281520"/>
            </a:xfrm>
          </p:grpSpPr>
          <p:sp>
            <p:nvSpPr>
              <p:cNvPr id="1161" name="AutoShape 50"/>
              <p:cNvSpPr/>
              <p:nvPr/>
            </p:nvSpPr>
            <p:spPr>
              <a:xfrm rot="20610600">
                <a:off x="1564920" y="4547520"/>
                <a:ext cx="423000" cy="101520"/>
              </a:xfrm>
              <a:custGeom>
                <a:avLst/>
                <a:gdLst>
                  <a:gd name="textAreaLeft" fmla="*/ 0 w 423000"/>
                  <a:gd name="textAreaRight" fmla="*/ 423360 w 42300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804" y="0"/>
                    </a:lnTo>
                    <a:lnTo>
                      <a:pt x="21600" y="10800"/>
                    </a:lnTo>
                    <a:lnTo>
                      <a:pt x="38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AutoShape 51"/>
              <p:cNvSpPr/>
              <p:nvPr/>
            </p:nvSpPr>
            <p:spPr>
              <a:xfrm rot="19993800">
                <a:off x="1568880" y="4572360"/>
                <a:ext cx="423000" cy="101880"/>
              </a:xfrm>
              <a:custGeom>
                <a:avLst/>
                <a:gdLst>
                  <a:gd name="textAreaLeft" fmla="*/ 0 w 423000"/>
                  <a:gd name="textAreaRight" fmla="*/ 423360 w 42300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804" y="0"/>
                    </a:lnTo>
                    <a:lnTo>
                      <a:pt x="21600" y="10800"/>
                    </a:lnTo>
                    <a:lnTo>
                      <a:pt x="38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3" name="Oval 86"/>
            <p:cNvSpPr/>
            <p:nvPr/>
          </p:nvSpPr>
          <p:spPr>
            <a:xfrm>
              <a:off x="1465560" y="4615200"/>
              <a:ext cx="134640" cy="13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4" name="组合 275"/>
          <p:cNvGrpSpPr/>
          <p:nvPr/>
        </p:nvGrpSpPr>
        <p:grpSpPr>
          <a:xfrm>
            <a:off x="3478320" y="3664080"/>
            <a:ext cx="2014560" cy="2016000"/>
            <a:chOff x="3478320" y="3664080"/>
            <a:chExt cx="2014560" cy="2016000"/>
          </a:xfrm>
        </p:grpSpPr>
        <p:sp>
          <p:nvSpPr>
            <p:cNvPr id="1165" name="Oval 4"/>
            <p:cNvSpPr/>
            <p:nvPr/>
          </p:nvSpPr>
          <p:spPr>
            <a:xfrm>
              <a:off x="3478320" y="3664080"/>
              <a:ext cx="2014560" cy="2016000"/>
            </a:xfrm>
            <a:prstGeom prst="ellipse">
              <a:avLst/>
            </a:prstGeom>
            <a:solidFill>
              <a:srgbClr val="f5b9a9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Oval 5"/>
            <p:cNvSpPr/>
            <p:nvPr/>
          </p:nvSpPr>
          <p:spPr>
            <a:xfrm>
              <a:off x="3554280" y="3731760"/>
              <a:ext cx="1861560" cy="1866960"/>
            </a:xfrm>
            <a:prstGeom prst="ellipse">
              <a:avLst/>
            </a:prstGeom>
            <a:gradFill rotWithShape="0">
              <a:gsLst>
                <a:gs pos="0">
                  <a:srgbClr val="ccffcc">
                    <a:alpha val="70196"/>
                  </a:srgbClr>
                </a:gs>
                <a:gs pos="100000">
                  <a:srgbClr val="ffffcc">
                    <a:alpha val="65098"/>
                  </a:srgbClr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Line 6"/>
            <p:cNvSpPr/>
            <p:nvPr/>
          </p:nvSpPr>
          <p:spPr>
            <a:xfrm>
              <a:off x="3961440" y="3913200"/>
              <a:ext cx="51120" cy="745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Line 7"/>
            <p:cNvSpPr/>
            <p:nvPr/>
          </p:nvSpPr>
          <p:spPr>
            <a:xfrm>
              <a:off x="4460400" y="5503320"/>
              <a:ext cx="0" cy="990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Line 8"/>
            <p:cNvSpPr/>
            <p:nvPr/>
          </p:nvSpPr>
          <p:spPr>
            <a:xfrm>
              <a:off x="4494240" y="3742200"/>
              <a:ext cx="0" cy="9972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12"/>
            <p:cNvSpPr/>
            <p:nvPr/>
          </p:nvSpPr>
          <p:spPr>
            <a:xfrm flipH="1">
              <a:off x="4905360" y="3863160"/>
              <a:ext cx="50040" cy="997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13"/>
            <p:cNvSpPr/>
            <p:nvPr/>
          </p:nvSpPr>
          <p:spPr>
            <a:xfrm>
              <a:off x="4914000" y="5374800"/>
              <a:ext cx="58680" cy="882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Line 14"/>
            <p:cNvSpPr/>
            <p:nvPr/>
          </p:nvSpPr>
          <p:spPr>
            <a:xfrm flipH="1">
              <a:off x="3998880" y="5361480"/>
              <a:ext cx="55080" cy="9036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Line 15"/>
            <p:cNvSpPr/>
            <p:nvPr/>
          </p:nvSpPr>
          <p:spPr>
            <a:xfrm>
              <a:off x="5313960" y="4685040"/>
              <a:ext cx="10044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Line 16"/>
            <p:cNvSpPr/>
            <p:nvPr/>
          </p:nvSpPr>
          <p:spPr>
            <a:xfrm flipV="1">
              <a:off x="5205240" y="4218120"/>
              <a:ext cx="87120" cy="601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Line 17"/>
            <p:cNvSpPr/>
            <p:nvPr/>
          </p:nvSpPr>
          <p:spPr>
            <a:xfrm>
              <a:off x="5202360" y="5067720"/>
              <a:ext cx="93240" cy="5076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Line 18"/>
            <p:cNvSpPr/>
            <p:nvPr/>
          </p:nvSpPr>
          <p:spPr>
            <a:xfrm flipH="1">
              <a:off x="3552120" y="4683960"/>
              <a:ext cx="10188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Line 19"/>
            <p:cNvSpPr/>
            <p:nvPr/>
          </p:nvSpPr>
          <p:spPr>
            <a:xfrm flipH="1">
              <a:off x="3680640" y="5103360"/>
              <a:ext cx="88920" cy="6156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Line 20"/>
            <p:cNvSpPr/>
            <p:nvPr/>
          </p:nvSpPr>
          <p:spPr>
            <a:xfrm flipH="1" flipV="1">
              <a:off x="3646440" y="4259520"/>
              <a:ext cx="93960" cy="5184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WordArt 21"/>
            <p:cNvSpPr txBox="1"/>
            <p:nvPr/>
          </p:nvSpPr>
          <p:spPr>
            <a:xfrm>
              <a:off x="4828320" y="3988440"/>
              <a:ext cx="77400" cy="9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80" name="WordArt 22"/>
            <p:cNvSpPr txBox="1"/>
            <p:nvPr/>
          </p:nvSpPr>
          <p:spPr>
            <a:xfrm>
              <a:off x="5084280" y="4261680"/>
              <a:ext cx="10044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81" name="WordArt 23"/>
            <p:cNvSpPr txBox="1"/>
            <p:nvPr/>
          </p:nvSpPr>
          <p:spPr>
            <a:xfrm>
              <a:off x="5185080" y="4635000"/>
              <a:ext cx="10188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82" name="WordArt 24"/>
            <p:cNvSpPr txBox="1"/>
            <p:nvPr/>
          </p:nvSpPr>
          <p:spPr>
            <a:xfrm>
              <a:off x="5084280" y="5007600"/>
              <a:ext cx="100440" cy="9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83" name="WordArt 25"/>
            <p:cNvSpPr txBox="1"/>
            <p:nvPr/>
          </p:nvSpPr>
          <p:spPr>
            <a:xfrm>
              <a:off x="4803840" y="5257080"/>
              <a:ext cx="10188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84" name="WordArt 26"/>
            <p:cNvSpPr txBox="1"/>
            <p:nvPr/>
          </p:nvSpPr>
          <p:spPr>
            <a:xfrm>
              <a:off x="4064400" y="5257080"/>
              <a:ext cx="10188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7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85" name="WordArt 27"/>
            <p:cNvSpPr txBox="1"/>
            <p:nvPr/>
          </p:nvSpPr>
          <p:spPr>
            <a:xfrm>
              <a:off x="4421160" y="5381640"/>
              <a:ext cx="10188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6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86" name="WordArt 28"/>
            <p:cNvSpPr txBox="1"/>
            <p:nvPr/>
          </p:nvSpPr>
          <p:spPr>
            <a:xfrm>
              <a:off x="3808080" y="5007600"/>
              <a:ext cx="101880" cy="9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8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87" name="WordArt 29"/>
            <p:cNvSpPr txBox="1"/>
            <p:nvPr/>
          </p:nvSpPr>
          <p:spPr>
            <a:xfrm>
              <a:off x="3990240" y="4047480"/>
              <a:ext cx="153720" cy="9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1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88" name="WordArt 30"/>
            <p:cNvSpPr txBox="1"/>
            <p:nvPr/>
          </p:nvSpPr>
          <p:spPr>
            <a:xfrm>
              <a:off x="4394880" y="3863160"/>
              <a:ext cx="178920" cy="12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2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89" name="WordArt 31"/>
            <p:cNvSpPr txBox="1"/>
            <p:nvPr/>
          </p:nvSpPr>
          <p:spPr>
            <a:xfrm>
              <a:off x="3789000" y="4284000"/>
              <a:ext cx="152280" cy="12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0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90" name="WordArt 33"/>
            <p:cNvSpPr txBox="1"/>
            <p:nvPr/>
          </p:nvSpPr>
          <p:spPr>
            <a:xfrm>
              <a:off x="3681360" y="4635000"/>
              <a:ext cx="10152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9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91" name="Line 34"/>
            <p:cNvSpPr/>
            <p:nvPr/>
          </p:nvSpPr>
          <p:spPr>
            <a:xfrm>
              <a:off x="4446720" y="4336560"/>
              <a:ext cx="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Line 35"/>
            <p:cNvSpPr/>
            <p:nvPr/>
          </p:nvSpPr>
          <p:spPr>
            <a:xfrm>
              <a:off x="4473000" y="4261680"/>
              <a:ext cx="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Line 36"/>
            <p:cNvSpPr/>
            <p:nvPr/>
          </p:nvSpPr>
          <p:spPr>
            <a:xfrm>
              <a:off x="4473000" y="4311720"/>
              <a:ext cx="0" cy="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4" name="Group 68"/>
            <p:cNvGrpSpPr/>
            <p:nvPr/>
          </p:nvGrpSpPr>
          <p:grpSpPr>
            <a:xfrm>
              <a:off x="3804840" y="4641480"/>
              <a:ext cx="698760" cy="687240"/>
              <a:chOff x="3804840" y="4641480"/>
              <a:chExt cx="698760" cy="687240"/>
            </a:xfrm>
          </p:grpSpPr>
          <p:sp>
            <p:nvSpPr>
              <p:cNvPr id="1195" name="AutoShape 69"/>
              <p:cNvSpPr/>
              <p:nvPr/>
            </p:nvSpPr>
            <p:spPr>
              <a:xfrm rot="10800000">
                <a:off x="3804840" y="4641480"/>
                <a:ext cx="643680" cy="66960"/>
              </a:xfrm>
              <a:custGeom>
                <a:avLst/>
                <a:gdLst>
                  <a:gd name="textAreaLeft" fmla="*/ 0 w 643680"/>
                  <a:gd name="textAreaRight" fmla="*/ 644040 w 64368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1826" y="0"/>
                    </a:lnTo>
                    <a:lnTo>
                      <a:pt x="21600" y="10800"/>
                    </a:lnTo>
                    <a:lnTo>
                      <a:pt x="11826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AutoShape 70"/>
              <p:cNvSpPr/>
              <p:nvPr/>
            </p:nvSpPr>
            <p:spPr>
              <a:xfrm rot="5400000">
                <a:off x="4196160" y="5021280"/>
                <a:ext cx="571320" cy="4320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2126" y="0"/>
                    </a:lnTo>
                    <a:lnTo>
                      <a:pt x="21600" y="10800"/>
                    </a:lnTo>
                    <a:lnTo>
                      <a:pt x="12126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Group 49"/>
            <p:cNvGrpSpPr/>
            <p:nvPr/>
          </p:nvGrpSpPr>
          <p:grpSpPr>
            <a:xfrm>
              <a:off x="4510080" y="4353840"/>
              <a:ext cx="443160" cy="417600"/>
              <a:chOff x="4510080" y="4353840"/>
              <a:chExt cx="443160" cy="417600"/>
            </a:xfrm>
          </p:grpSpPr>
          <p:sp>
            <p:nvSpPr>
              <p:cNvPr id="1198" name="AutoShape 50"/>
              <p:cNvSpPr/>
              <p:nvPr/>
            </p:nvSpPr>
            <p:spPr>
              <a:xfrm rot="19290600">
                <a:off x="4495320" y="4474440"/>
                <a:ext cx="423360" cy="101520"/>
              </a:xfrm>
              <a:custGeom>
                <a:avLst/>
                <a:gdLst>
                  <a:gd name="textAreaLeft" fmla="*/ 0 w 423360"/>
                  <a:gd name="textAreaRight" fmla="*/ 423720 w 4233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804" y="0"/>
                    </a:lnTo>
                    <a:lnTo>
                      <a:pt x="21600" y="10800"/>
                    </a:lnTo>
                    <a:lnTo>
                      <a:pt x="38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AutoShape 51"/>
              <p:cNvSpPr/>
              <p:nvPr/>
            </p:nvSpPr>
            <p:spPr>
              <a:xfrm rot="19993800">
                <a:off x="4529520" y="4579560"/>
                <a:ext cx="423360" cy="101520"/>
              </a:xfrm>
              <a:custGeom>
                <a:avLst/>
                <a:gdLst>
                  <a:gd name="textAreaLeft" fmla="*/ 0 w 423360"/>
                  <a:gd name="textAreaRight" fmla="*/ 423720 w 4233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804" y="0"/>
                    </a:lnTo>
                    <a:lnTo>
                      <a:pt x="21600" y="10800"/>
                    </a:lnTo>
                    <a:lnTo>
                      <a:pt x="38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0" name="Oval 86"/>
            <p:cNvSpPr/>
            <p:nvPr/>
          </p:nvSpPr>
          <p:spPr>
            <a:xfrm>
              <a:off x="4426920" y="4623120"/>
              <a:ext cx="134640" cy="13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1" name="组合 312"/>
          <p:cNvGrpSpPr/>
          <p:nvPr/>
        </p:nvGrpSpPr>
        <p:grpSpPr>
          <a:xfrm>
            <a:off x="6431040" y="3664080"/>
            <a:ext cx="2016000" cy="2016000"/>
            <a:chOff x="6431040" y="3664080"/>
            <a:chExt cx="2016000" cy="2016000"/>
          </a:xfrm>
        </p:grpSpPr>
        <p:sp>
          <p:nvSpPr>
            <p:cNvPr id="1202" name="Oval 4"/>
            <p:cNvSpPr/>
            <p:nvPr/>
          </p:nvSpPr>
          <p:spPr>
            <a:xfrm>
              <a:off x="6431040" y="3664080"/>
              <a:ext cx="2016000" cy="2016000"/>
            </a:xfrm>
            <a:prstGeom prst="ellipse">
              <a:avLst/>
            </a:prstGeom>
            <a:solidFill>
              <a:srgbClr val="f5b9a9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Oval 5"/>
            <p:cNvSpPr/>
            <p:nvPr/>
          </p:nvSpPr>
          <p:spPr>
            <a:xfrm>
              <a:off x="6507000" y="3731760"/>
              <a:ext cx="1863000" cy="1866960"/>
            </a:xfrm>
            <a:prstGeom prst="ellipse">
              <a:avLst/>
            </a:prstGeom>
            <a:gradFill rotWithShape="0">
              <a:gsLst>
                <a:gs pos="0">
                  <a:srgbClr val="ccffcc">
                    <a:alpha val="70196"/>
                  </a:srgbClr>
                </a:gs>
                <a:gs pos="100000">
                  <a:srgbClr val="ffffcc">
                    <a:alpha val="65098"/>
                  </a:srgbClr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Line 6"/>
            <p:cNvSpPr/>
            <p:nvPr/>
          </p:nvSpPr>
          <p:spPr>
            <a:xfrm>
              <a:off x="6914520" y="3913200"/>
              <a:ext cx="51120" cy="745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Line 7"/>
            <p:cNvSpPr/>
            <p:nvPr/>
          </p:nvSpPr>
          <p:spPr>
            <a:xfrm>
              <a:off x="7413840" y="5503320"/>
              <a:ext cx="0" cy="990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Line 8"/>
            <p:cNvSpPr/>
            <p:nvPr/>
          </p:nvSpPr>
          <p:spPr>
            <a:xfrm>
              <a:off x="7447680" y="3742200"/>
              <a:ext cx="0" cy="9972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Line 12"/>
            <p:cNvSpPr/>
            <p:nvPr/>
          </p:nvSpPr>
          <p:spPr>
            <a:xfrm flipH="1">
              <a:off x="7859160" y="3863160"/>
              <a:ext cx="50040" cy="997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Line 13"/>
            <p:cNvSpPr/>
            <p:nvPr/>
          </p:nvSpPr>
          <p:spPr>
            <a:xfrm>
              <a:off x="7867800" y="5374800"/>
              <a:ext cx="58680" cy="882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Line 14"/>
            <p:cNvSpPr/>
            <p:nvPr/>
          </p:nvSpPr>
          <p:spPr>
            <a:xfrm flipH="1">
              <a:off x="6951960" y="5361480"/>
              <a:ext cx="55080" cy="9036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Line 15"/>
            <p:cNvSpPr/>
            <p:nvPr/>
          </p:nvSpPr>
          <p:spPr>
            <a:xfrm>
              <a:off x="8267760" y="4685040"/>
              <a:ext cx="10044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Line 16"/>
            <p:cNvSpPr/>
            <p:nvPr/>
          </p:nvSpPr>
          <p:spPr>
            <a:xfrm flipV="1">
              <a:off x="8159400" y="4218120"/>
              <a:ext cx="87120" cy="601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Line 17"/>
            <p:cNvSpPr/>
            <p:nvPr/>
          </p:nvSpPr>
          <p:spPr>
            <a:xfrm>
              <a:off x="8156880" y="5067720"/>
              <a:ext cx="93600" cy="5076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Line 18"/>
            <p:cNvSpPr/>
            <p:nvPr/>
          </p:nvSpPr>
          <p:spPr>
            <a:xfrm flipH="1">
              <a:off x="6505200" y="4683960"/>
              <a:ext cx="10224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Line 19"/>
            <p:cNvSpPr/>
            <p:nvPr/>
          </p:nvSpPr>
          <p:spPr>
            <a:xfrm flipH="1">
              <a:off x="6633720" y="5103360"/>
              <a:ext cx="88920" cy="6156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Line 20"/>
            <p:cNvSpPr/>
            <p:nvPr/>
          </p:nvSpPr>
          <p:spPr>
            <a:xfrm flipH="1" flipV="1">
              <a:off x="6599160" y="4259520"/>
              <a:ext cx="93960" cy="5184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WordArt 21"/>
            <p:cNvSpPr txBox="1"/>
            <p:nvPr/>
          </p:nvSpPr>
          <p:spPr>
            <a:xfrm>
              <a:off x="7782120" y="3988440"/>
              <a:ext cx="77400" cy="9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217" name="WordArt 22"/>
            <p:cNvSpPr txBox="1"/>
            <p:nvPr/>
          </p:nvSpPr>
          <p:spPr>
            <a:xfrm>
              <a:off x="8038080" y="4261680"/>
              <a:ext cx="10044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218" name="WordArt 23"/>
            <p:cNvSpPr txBox="1"/>
            <p:nvPr/>
          </p:nvSpPr>
          <p:spPr>
            <a:xfrm>
              <a:off x="8138880" y="4635000"/>
              <a:ext cx="10188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219" name="WordArt 24"/>
            <p:cNvSpPr txBox="1"/>
            <p:nvPr/>
          </p:nvSpPr>
          <p:spPr>
            <a:xfrm>
              <a:off x="8038080" y="5007600"/>
              <a:ext cx="100440" cy="9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220" name="WordArt 25"/>
            <p:cNvSpPr txBox="1"/>
            <p:nvPr/>
          </p:nvSpPr>
          <p:spPr>
            <a:xfrm>
              <a:off x="7757280" y="5257080"/>
              <a:ext cx="10188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221" name="WordArt 26"/>
            <p:cNvSpPr txBox="1"/>
            <p:nvPr/>
          </p:nvSpPr>
          <p:spPr>
            <a:xfrm>
              <a:off x="7017480" y="5257080"/>
              <a:ext cx="10188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7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222" name="WordArt 27"/>
            <p:cNvSpPr txBox="1"/>
            <p:nvPr/>
          </p:nvSpPr>
          <p:spPr>
            <a:xfrm>
              <a:off x="7374600" y="5381640"/>
              <a:ext cx="10188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6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223" name="WordArt 28"/>
            <p:cNvSpPr txBox="1"/>
            <p:nvPr/>
          </p:nvSpPr>
          <p:spPr>
            <a:xfrm>
              <a:off x="6761160" y="5007600"/>
              <a:ext cx="102240" cy="9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8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224" name="WordArt 29"/>
            <p:cNvSpPr txBox="1"/>
            <p:nvPr/>
          </p:nvSpPr>
          <p:spPr>
            <a:xfrm>
              <a:off x="6943320" y="4047480"/>
              <a:ext cx="153720" cy="9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1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225" name="WordArt 30"/>
            <p:cNvSpPr txBox="1"/>
            <p:nvPr/>
          </p:nvSpPr>
          <p:spPr>
            <a:xfrm>
              <a:off x="7348320" y="3863160"/>
              <a:ext cx="178920" cy="12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2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226" name="WordArt 31"/>
            <p:cNvSpPr txBox="1"/>
            <p:nvPr/>
          </p:nvSpPr>
          <p:spPr>
            <a:xfrm>
              <a:off x="6742080" y="4284000"/>
              <a:ext cx="152280" cy="12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0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227" name="WordArt 33"/>
            <p:cNvSpPr txBox="1"/>
            <p:nvPr/>
          </p:nvSpPr>
          <p:spPr>
            <a:xfrm>
              <a:off x="6634440" y="4635000"/>
              <a:ext cx="101520" cy="9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9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228" name="Line 34"/>
            <p:cNvSpPr/>
            <p:nvPr/>
          </p:nvSpPr>
          <p:spPr>
            <a:xfrm>
              <a:off x="7400160" y="4336560"/>
              <a:ext cx="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Line 35"/>
            <p:cNvSpPr/>
            <p:nvPr/>
          </p:nvSpPr>
          <p:spPr>
            <a:xfrm>
              <a:off x="7426440" y="4261680"/>
              <a:ext cx="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Line 36"/>
            <p:cNvSpPr/>
            <p:nvPr/>
          </p:nvSpPr>
          <p:spPr>
            <a:xfrm>
              <a:off x="7426440" y="4311720"/>
              <a:ext cx="0" cy="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1" name="Group 68"/>
            <p:cNvGrpSpPr/>
            <p:nvPr/>
          </p:nvGrpSpPr>
          <p:grpSpPr>
            <a:xfrm>
              <a:off x="7414200" y="4305600"/>
              <a:ext cx="654120" cy="1023480"/>
              <a:chOff x="7414200" y="4305600"/>
              <a:chExt cx="654120" cy="1023480"/>
            </a:xfrm>
          </p:grpSpPr>
          <p:sp>
            <p:nvSpPr>
              <p:cNvPr id="1232" name="AutoShape 69"/>
              <p:cNvSpPr/>
              <p:nvPr/>
            </p:nvSpPr>
            <p:spPr>
              <a:xfrm rot="19680000">
                <a:off x="7455960" y="4470840"/>
                <a:ext cx="643320" cy="66960"/>
              </a:xfrm>
              <a:custGeom>
                <a:avLst/>
                <a:gdLst>
                  <a:gd name="textAreaLeft" fmla="*/ 0 w 643320"/>
                  <a:gd name="textAreaRight" fmla="*/ 643680 w 64332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1826" y="0"/>
                    </a:lnTo>
                    <a:lnTo>
                      <a:pt x="21600" y="10800"/>
                    </a:lnTo>
                    <a:lnTo>
                      <a:pt x="11826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AutoShape 70"/>
              <p:cNvSpPr/>
              <p:nvPr/>
            </p:nvSpPr>
            <p:spPr>
              <a:xfrm rot="5400000">
                <a:off x="7149960" y="5021640"/>
                <a:ext cx="571320" cy="4320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2126" y="0"/>
                    </a:lnTo>
                    <a:lnTo>
                      <a:pt x="21600" y="10800"/>
                    </a:lnTo>
                    <a:lnTo>
                      <a:pt x="12126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4" name="Group 49"/>
            <p:cNvGrpSpPr/>
            <p:nvPr/>
          </p:nvGrpSpPr>
          <p:grpSpPr>
            <a:xfrm>
              <a:off x="6967800" y="4489200"/>
              <a:ext cx="939600" cy="281520"/>
              <a:chOff x="6967800" y="4489200"/>
              <a:chExt cx="939600" cy="281520"/>
            </a:xfrm>
          </p:grpSpPr>
          <p:sp>
            <p:nvSpPr>
              <p:cNvPr id="1235" name="AutoShape 50"/>
              <p:cNvSpPr/>
              <p:nvPr/>
            </p:nvSpPr>
            <p:spPr>
              <a:xfrm rot="11130600">
                <a:off x="6971760" y="4611960"/>
                <a:ext cx="423000" cy="101520"/>
              </a:xfrm>
              <a:custGeom>
                <a:avLst/>
                <a:gdLst>
                  <a:gd name="textAreaLeft" fmla="*/ 0 w 423000"/>
                  <a:gd name="textAreaRight" fmla="*/ 423360 w 42300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" y="0"/>
                    </a:lnTo>
                    <a:lnTo>
                      <a:pt x="21600" y="10800"/>
                    </a:lnTo>
                    <a:lnTo>
                      <a:pt x="1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AutoShape 51"/>
              <p:cNvSpPr/>
              <p:nvPr/>
            </p:nvSpPr>
            <p:spPr>
              <a:xfrm rot="19993800">
                <a:off x="7483680" y="4578840"/>
                <a:ext cx="423360" cy="101520"/>
              </a:xfrm>
              <a:custGeom>
                <a:avLst/>
                <a:gdLst>
                  <a:gd name="textAreaLeft" fmla="*/ 0 w 423360"/>
                  <a:gd name="textAreaRight" fmla="*/ 423720 w 4233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804" y="0"/>
                    </a:lnTo>
                    <a:lnTo>
                      <a:pt x="21600" y="10800"/>
                    </a:lnTo>
                    <a:lnTo>
                      <a:pt x="38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7" name="Oval 86"/>
            <p:cNvSpPr/>
            <p:nvPr/>
          </p:nvSpPr>
          <p:spPr>
            <a:xfrm>
              <a:off x="7380360" y="4623120"/>
              <a:ext cx="134640" cy="13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8" name="文本框 349"/>
          <p:cNvSpPr/>
          <p:nvPr/>
        </p:nvSpPr>
        <p:spPr>
          <a:xfrm>
            <a:off x="1803240" y="313848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: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文本框 351"/>
          <p:cNvSpPr/>
          <p:nvPr/>
        </p:nvSpPr>
        <p:spPr>
          <a:xfrm>
            <a:off x="4892760" y="313704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: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文本框 352"/>
          <p:cNvSpPr/>
          <p:nvPr/>
        </p:nvSpPr>
        <p:spPr>
          <a:xfrm>
            <a:off x="7807320" y="3135240"/>
            <a:ext cx="8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: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文本框 353"/>
          <p:cNvSpPr/>
          <p:nvPr/>
        </p:nvSpPr>
        <p:spPr>
          <a:xfrm>
            <a:off x="1881360" y="5753160"/>
            <a:ext cx="8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文本框 354"/>
          <p:cNvSpPr/>
          <p:nvPr/>
        </p:nvSpPr>
        <p:spPr>
          <a:xfrm>
            <a:off x="4889520" y="574524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: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文本框 355"/>
          <p:cNvSpPr/>
          <p:nvPr/>
        </p:nvSpPr>
        <p:spPr>
          <a:xfrm>
            <a:off x="7813800" y="5751360"/>
            <a:ext cx="8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: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5T05:28:00Z</dcterms:created>
  <dc:creator/>
  <dc:description/>
  <dc:language>en-US</dc:language>
  <cp:lastModifiedBy>万润仪器贸易公司</cp:lastModifiedBy>
  <dcterms:modified xsi:type="dcterms:W3CDTF">2020-08-21T00:44:51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